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EB0F-B9B5-493E-BE16-9D34CF795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121E-4764-40E4-B5D3-6BD4AC5D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1394-CC57-47FE-8E0B-2060D28B8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4D2E-A72D-452E-8F91-C0B1D4D3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AE86-AE01-4504-A775-527BA5AF5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E360-9A49-493E-BBF1-6A00EE8E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C96B-B2BA-40D4-A4A9-72DB30AD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ABA2-5F34-4CA3-9506-54283C4F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8963-CC8B-47AD-93E7-A3B405B2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ED12-EF19-40FF-8C59-07A12D47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A096-6085-4A24-941E-A20B012D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C5E7-87B4-429D-A902-725776F9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5751-1732-4C12-9DEC-ED02D065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7EA5-0B11-40C6-B5B3-E4846CAE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C81B-231A-48A6-942B-AA802B52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1EE9-3EDA-47C3-8AB1-C936A2624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B003-1922-4E0E-A56E-7D89832B8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1878-13F5-43BC-B7AA-1BDB778B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76AF-E0D5-4909-964E-465B5AE2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74C7-D46C-4836-B530-520428C1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9202-0E2F-4F52-BF21-2C570549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3083-790E-442C-A808-A77B260C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921B-F42B-42E3-A1B5-E76AC40C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F1F4-3182-4805-B5E9-6E1AD367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5EB3-F010-4D65-AF34-3AA495BA3DB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C38E-F14D-48BE-A645-6A60A1871E8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Opener: Solve the Multiplication Equ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) 12y = 8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) 3.5n = 10.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) 36 = 6j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1276200" y="1482840"/>
            <a:ext cx="1376640" cy="1197000"/>
          </a:xfrm>
          <a:custGeom>
            <a:avLst/>
            <a:gdLst/>
            <a:ahLst/>
            <a:rect l="l" t="t" r="r" b="b"/>
            <a:pathLst>
              <a:path w="3821" h="3324">
                <a:moveTo>
                  <a:pt x="3547" y="5358"/>
                </a:moveTo>
                <a:cubicBezTo>
                  <a:pt x="3586" y="5389"/>
                  <a:pt x="3614" y="5403"/>
                  <a:pt x="3696" y="5407"/>
                </a:cubicBezTo>
                <a:cubicBezTo>
                  <a:pt x="3754" y="5410"/>
                  <a:pt x="3790" y="5424"/>
                  <a:pt x="3845" y="5432"/>
                </a:cubicBezTo>
                <a:cubicBezTo>
                  <a:pt x="3902" y="5440"/>
                  <a:pt x="4029" y="5460"/>
                  <a:pt x="4068" y="5457"/>
                </a:cubicBezTo>
                <a:cubicBezTo>
                  <a:pt x="4228" y="5444"/>
                  <a:pt x="4354" y="5445"/>
                  <a:pt x="4514" y="5457"/>
                </a:cubicBezTo>
                <a:cubicBezTo>
                  <a:pt x="4746" y="5475"/>
                  <a:pt x="4979" y="5459"/>
                  <a:pt x="5209" y="5482"/>
                </a:cubicBezTo>
                <a:cubicBezTo>
                  <a:pt x="5275" y="5482"/>
                  <a:pt x="5292" y="5482"/>
                  <a:pt x="5333" y="5482"/>
                </a:cubicBezTo>
              </a:path>
              <a:path w="3821" h="3324">
                <a:moveTo>
                  <a:pt x="6226" y="5358"/>
                </a:moveTo>
                <a:cubicBezTo>
                  <a:pt x="6338" y="5381"/>
                  <a:pt x="6405" y="5366"/>
                  <a:pt x="6524" y="5358"/>
                </a:cubicBezTo>
                <a:cubicBezTo>
                  <a:pt x="6712" y="5345"/>
                  <a:pt x="7212" y="5449"/>
                  <a:pt x="7367" y="5333"/>
                </a:cubicBezTo>
              </a:path>
              <a:path w="3821" h="3324">
                <a:moveTo>
                  <a:pt x="3746" y="5705"/>
                </a:moveTo>
                <a:cubicBezTo>
                  <a:pt x="3746" y="5622"/>
                  <a:pt x="3737" y="5821"/>
                  <a:pt x="3746" y="5904"/>
                </a:cubicBezTo>
                <a:cubicBezTo>
                  <a:pt x="3767" y="6011"/>
                  <a:pt x="3775" y="6035"/>
                  <a:pt x="3770" y="6102"/>
                </a:cubicBezTo>
              </a:path>
              <a:path w="3821" h="3324">
                <a:moveTo>
                  <a:pt x="4068" y="5755"/>
                </a:moveTo>
                <a:cubicBezTo>
                  <a:pt x="4082" y="5701"/>
                  <a:pt x="4167" y="5578"/>
                  <a:pt x="4242" y="5631"/>
                </a:cubicBezTo>
                <a:cubicBezTo>
                  <a:pt x="4370" y="5722"/>
                  <a:pt x="4195" y="5958"/>
                  <a:pt x="4142" y="6028"/>
                </a:cubicBezTo>
                <a:cubicBezTo>
                  <a:pt x="4120" y="6050"/>
                  <a:pt x="4112" y="6055"/>
                  <a:pt x="4118" y="6077"/>
                </a:cubicBezTo>
                <a:cubicBezTo>
                  <a:pt x="4219" y="6057"/>
                  <a:pt x="4307" y="6010"/>
                  <a:pt x="4415" y="6003"/>
                </a:cubicBezTo>
                <a:cubicBezTo>
                  <a:pt x="4448" y="6001"/>
                  <a:pt x="4481" y="6003"/>
                  <a:pt x="4514" y="6003"/>
                </a:cubicBezTo>
              </a:path>
              <a:path w="3821" h="3324">
                <a:moveTo>
                  <a:pt x="4142" y="4118"/>
                </a:moveTo>
                <a:cubicBezTo>
                  <a:pt x="4132" y="4258"/>
                  <a:pt x="4101" y="4399"/>
                  <a:pt x="4093" y="4539"/>
                </a:cubicBezTo>
                <a:cubicBezTo>
                  <a:pt x="4081" y="4755"/>
                  <a:pt x="4057" y="4970"/>
                  <a:pt x="4043" y="5184"/>
                </a:cubicBezTo>
                <a:cubicBezTo>
                  <a:pt x="4025" y="5459"/>
                  <a:pt x="4055" y="5733"/>
                  <a:pt x="4018" y="6003"/>
                </a:cubicBezTo>
                <a:cubicBezTo>
                  <a:pt x="4007" y="6082"/>
                  <a:pt x="4018" y="6171"/>
                  <a:pt x="4018" y="6251"/>
                </a:cubicBezTo>
              </a:path>
              <a:path w="3821" h="3324">
                <a:moveTo>
                  <a:pt x="4514" y="6573"/>
                </a:moveTo>
                <a:cubicBezTo>
                  <a:pt x="4547" y="6688"/>
                  <a:pt x="4588" y="6809"/>
                  <a:pt x="4638" y="6921"/>
                </a:cubicBezTo>
                <a:cubicBezTo>
                  <a:pt x="4647" y="6940"/>
                  <a:pt x="4663" y="7027"/>
                  <a:pt x="4663" y="6970"/>
                </a:cubicBezTo>
              </a:path>
              <a:path w="3821" h="3324">
                <a:moveTo>
                  <a:pt x="4787" y="6598"/>
                </a:moveTo>
                <a:cubicBezTo>
                  <a:pt x="4787" y="6729"/>
                  <a:pt x="4771" y="6868"/>
                  <a:pt x="4738" y="6995"/>
                </a:cubicBezTo>
                <a:cubicBezTo>
                  <a:pt x="4708" y="7112"/>
                  <a:pt x="4684" y="7282"/>
                  <a:pt x="4638" y="7392"/>
                </a:cubicBezTo>
                <a:cubicBezTo>
                  <a:pt x="4616" y="7414"/>
                  <a:pt x="4608" y="7419"/>
                  <a:pt x="4614" y="7441"/>
                </a:cubicBezTo>
              </a:path>
              <a:path w="3821" h="3324">
                <a:moveTo>
                  <a:pt x="5110" y="6747"/>
                </a:moveTo>
                <a:cubicBezTo>
                  <a:pt x="5182" y="6747"/>
                  <a:pt x="5238" y="6734"/>
                  <a:pt x="5308" y="6722"/>
                </a:cubicBezTo>
                <a:cubicBezTo>
                  <a:pt x="5316" y="6722"/>
                  <a:pt x="5325" y="6722"/>
                  <a:pt x="5333" y="6722"/>
                </a:cubicBezTo>
              </a:path>
              <a:path w="3821" h="3324">
                <a:moveTo>
                  <a:pt x="5110" y="6945"/>
                </a:moveTo>
                <a:cubicBezTo>
                  <a:pt x="5190" y="6925"/>
                  <a:pt x="5281" y="6888"/>
                  <a:pt x="5333" y="6871"/>
                </a:cubicBezTo>
              </a:path>
              <a:path w="3821" h="3324">
                <a:moveTo>
                  <a:pt x="6499" y="5631"/>
                </a:moveTo>
                <a:cubicBezTo>
                  <a:pt x="6499" y="5623"/>
                  <a:pt x="6499" y="5614"/>
                  <a:pt x="6499" y="5606"/>
                </a:cubicBezTo>
                <a:cubicBezTo>
                  <a:pt x="6443" y="5625"/>
                  <a:pt x="6472" y="5879"/>
                  <a:pt x="6474" y="5904"/>
                </a:cubicBezTo>
                <a:cubicBezTo>
                  <a:pt x="6495" y="6027"/>
                  <a:pt x="6503" y="6052"/>
                  <a:pt x="6499" y="6127"/>
                </a:cubicBezTo>
              </a:path>
              <a:path w="3821" h="3324">
                <a:moveTo>
                  <a:pt x="6945" y="5606"/>
                </a:moveTo>
                <a:cubicBezTo>
                  <a:pt x="6965" y="5555"/>
                  <a:pt x="7046" y="5502"/>
                  <a:pt x="7069" y="5507"/>
                </a:cubicBezTo>
                <a:cubicBezTo>
                  <a:pt x="7167" y="5531"/>
                  <a:pt x="7084" y="5684"/>
                  <a:pt x="7069" y="5730"/>
                </a:cubicBezTo>
                <a:cubicBezTo>
                  <a:pt x="7040" y="5817"/>
                  <a:pt x="6970" y="5920"/>
                  <a:pt x="6896" y="5978"/>
                </a:cubicBezTo>
                <a:cubicBezTo>
                  <a:pt x="6829" y="6030"/>
                  <a:pt x="6821" y="6038"/>
                  <a:pt x="6821" y="6127"/>
                </a:cubicBezTo>
                <a:cubicBezTo>
                  <a:pt x="6876" y="6099"/>
                  <a:pt x="6876" y="6032"/>
                  <a:pt x="6945" y="6003"/>
                </a:cubicBezTo>
                <a:cubicBezTo>
                  <a:pt x="7007" y="5977"/>
                  <a:pt x="7052" y="6048"/>
                  <a:pt x="7069" y="6052"/>
                </a:cubicBezTo>
                <a:cubicBezTo>
                  <a:pt x="7153" y="6071"/>
                  <a:pt x="7213" y="6033"/>
                  <a:pt x="7268" y="5978"/>
                </a:cubicBezTo>
              </a:path>
              <a:path w="3821" h="3324">
                <a:moveTo>
                  <a:pt x="5978" y="6598"/>
                </a:moveTo>
                <a:cubicBezTo>
                  <a:pt x="6071" y="6582"/>
                  <a:pt x="6154" y="6573"/>
                  <a:pt x="6251" y="6573"/>
                </a:cubicBezTo>
                <a:cubicBezTo>
                  <a:pt x="6276" y="6573"/>
                  <a:pt x="6300" y="6573"/>
                  <a:pt x="6325" y="6573"/>
                </a:cubicBezTo>
                <a:cubicBezTo>
                  <a:pt x="6253" y="6748"/>
                  <a:pt x="6194" y="6927"/>
                  <a:pt x="6102" y="7094"/>
                </a:cubicBezTo>
                <a:cubicBezTo>
                  <a:pt x="6056" y="7177"/>
                  <a:pt x="6052" y="7149"/>
                  <a:pt x="6052" y="72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16080" y="4000680"/>
            <a:ext cx="465120" cy="1295280"/>
          </a:xfrm>
          <a:custGeom>
            <a:avLst/>
            <a:gdLst/>
            <a:ahLst/>
            <a:rect l="l" t="t" r="r" b="b"/>
            <a:pathLst>
              <a:path w="1291" h="3598">
                <a:moveTo>
                  <a:pt x="6772" y="11212"/>
                </a:moveTo>
                <a:cubicBezTo>
                  <a:pt x="6758" y="11269"/>
                  <a:pt x="6725" y="11262"/>
                  <a:pt x="6772" y="11212"/>
                </a:cubicBezTo>
                <a:cubicBezTo>
                  <a:pt x="6845" y="11138"/>
                  <a:pt x="6869" y="11113"/>
                  <a:pt x="6945" y="11112"/>
                </a:cubicBezTo>
                <a:cubicBezTo>
                  <a:pt x="7107" y="11241"/>
                  <a:pt x="7016" y="11347"/>
                  <a:pt x="6896" y="11509"/>
                </a:cubicBezTo>
                <a:cubicBezTo>
                  <a:pt x="6873" y="11532"/>
                  <a:pt x="6869" y="11540"/>
                  <a:pt x="6846" y="11534"/>
                </a:cubicBezTo>
                <a:cubicBezTo>
                  <a:pt x="6927" y="11412"/>
                  <a:pt x="7061" y="11373"/>
                  <a:pt x="7144" y="11534"/>
                </a:cubicBezTo>
                <a:cubicBezTo>
                  <a:pt x="7263" y="11765"/>
                  <a:pt x="6949" y="11902"/>
                  <a:pt x="6772" y="11906"/>
                </a:cubicBezTo>
                <a:cubicBezTo>
                  <a:pt x="6711" y="11886"/>
                  <a:pt x="6697" y="11888"/>
                  <a:pt x="6672" y="11857"/>
                </a:cubicBezTo>
              </a:path>
              <a:path w="1291" h="3598">
                <a:moveTo>
                  <a:pt x="5879" y="13915"/>
                </a:moveTo>
                <a:cubicBezTo>
                  <a:pt x="6128" y="13895"/>
                  <a:pt x="6374" y="13842"/>
                  <a:pt x="6623" y="13816"/>
                </a:cubicBezTo>
                <a:cubicBezTo>
                  <a:pt x="6777" y="13800"/>
                  <a:pt x="6947" y="13800"/>
                  <a:pt x="7094" y="13767"/>
                </a:cubicBezTo>
              </a:path>
              <a:path w="1291" h="3598">
                <a:moveTo>
                  <a:pt x="6623" y="14064"/>
                </a:moveTo>
                <a:cubicBezTo>
                  <a:pt x="6547" y="14193"/>
                  <a:pt x="6429" y="14378"/>
                  <a:pt x="6424" y="14536"/>
                </a:cubicBezTo>
                <a:cubicBezTo>
                  <a:pt x="6419" y="14722"/>
                  <a:pt x="6636" y="14649"/>
                  <a:pt x="6722" y="14610"/>
                </a:cubicBezTo>
                <a:cubicBezTo>
                  <a:pt x="6846" y="14554"/>
                  <a:pt x="6911" y="14525"/>
                  <a:pt x="6921" y="14387"/>
                </a:cubicBezTo>
                <a:cubicBezTo>
                  <a:pt x="6921" y="14379"/>
                  <a:pt x="6921" y="14370"/>
                  <a:pt x="6921" y="14362"/>
                </a:cubicBezTo>
                <a:cubicBezTo>
                  <a:pt x="6772" y="14350"/>
                  <a:pt x="6718" y="14408"/>
                  <a:pt x="6672" y="14560"/>
                </a:cubicBezTo>
                <a:cubicBezTo>
                  <a:pt x="6672" y="14588"/>
                  <a:pt x="6674" y="14599"/>
                  <a:pt x="6697" y="14610"/>
                </a:cubicBezTo>
              </a:path>
              <a:path w="1291" h="3598">
                <a:moveTo>
                  <a:pt x="6251" y="12824"/>
                </a:moveTo>
                <a:cubicBezTo>
                  <a:pt x="6268" y="13171"/>
                  <a:pt x="6327" y="13464"/>
                  <a:pt x="6449" y="13791"/>
                </a:cubicBezTo>
                <a:cubicBezTo>
                  <a:pt x="6553" y="14070"/>
                  <a:pt x="6692" y="14333"/>
                  <a:pt x="6796" y="14610"/>
                </a:cubicBezTo>
                <a:cubicBezTo>
                  <a:pt x="6817" y="14665"/>
                  <a:pt x="6815" y="14660"/>
                  <a:pt x="6821" y="147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51000" y="3152880"/>
            <a:ext cx="1892160" cy="1170000"/>
          </a:xfrm>
          <a:custGeom>
            <a:avLst/>
            <a:gdLst/>
            <a:ahLst/>
            <a:rect l="l" t="t" r="r" b="b"/>
            <a:pathLst>
              <a:path w="5259" h="3250">
                <a:moveTo>
                  <a:pt x="3473" y="9847"/>
                </a:moveTo>
                <a:cubicBezTo>
                  <a:pt x="3604" y="9840"/>
                  <a:pt x="3740" y="9838"/>
                  <a:pt x="3870" y="9823"/>
                </a:cubicBezTo>
                <a:cubicBezTo>
                  <a:pt x="4121" y="9795"/>
                  <a:pt x="4383" y="9808"/>
                  <a:pt x="4638" y="9798"/>
                </a:cubicBezTo>
                <a:cubicBezTo>
                  <a:pt x="4832" y="9790"/>
                  <a:pt x="5020" y="9768"/>
                  <a:pt x="5209" y="9748"/>
                </a:cubicBezTo>
                <a:cubicBezTo>
                  <a:pt x="5280" y="9741"/>
                  <a:pt x="5336" y="9726"/>
                  <a:pt x="5407" y="9723"/>
                </a:cubicBezTo>
                <a:cubicBezTo>
                  <a:pt x="5432" y="9723"/>
                  <a:pt x="5440" y="9723"/>
                  <a:pt x="5457" y="9723"/>
                </a:cubicBezTo>
              </a:path>
              <a:path w="5259" h="3250">
                <a:moveTo>
                  <a:pt x="3870" y="10145"/>
                </a:moveTo>
                <a:cubicBezTo>
                  <a:pt x="3918" y="10110"/>
                  <a:pt x="4139" y="9970"/>
                  <a:pt x="4192" y="10071"/>
                </a:cubicBezTo>
                <a:cubicBezTo>
                  <a:pt x="4229" y="10142"/>
                  <a:pt x="4077" y="10242"/>
                  <a:pt x="4043" y="10269"/>
                </a:cubicBezTo>
                <a:cubicBezTo>
                  <a:pt x="4086" y="10278"/>
                  <a:pt x="4169" y="10304"/>
                  <a:pt x="4167" y="10368"/>
                </a:cubicBezTo>
                <a:cubicBezTo>
                  <a:pt x="4163" y="10467"/>
                  <a:pt x="3965" y="10621"/>
                  <a:pt x="3870" y="10542"/>
                </a:cubicBezTo>
                <a:cubicBezTo>
                  <a:pt x="3870" y="10525"/>
                  <a:pt x="3870" y="10509"/>
                  <a:pt x="3870" y="10492"/>
                </a:cubicBezTo>
              </a:path>
              <a:path w="5259" h="3250">
                <a:moveTo>
                  <a:pt x="4465" y="10344"/>
                </a:moveTo>
                <a:cubicBezTo>
                  <a:pt x="4484" y="10418"/>
                  <a:pt x="4466" y="10451"/>
                  <a:pt x="4514" y="10443"/>
                </a:cubicBezTo>
              </a:path>
              <a:path w="5259" h="3250">
                <a:moveTo>
                  <a:pt x="6747" y="9773"/>
                </a:moveTo>
                <a:cubicBezTo>
                  <a:pt x="6923" y="9684"/>
                  <a:pt x="7171" y="9661"/>
                  <a:pt x="7367" y="9624"/>
                </a:cubicBezTo>
                <a:cubicBezTo>
                  <a:pt x="7746" y="9553"/>
                  <a:pt x="8126" y="9502"/>
                  <a:pt x="8508" y="9451"/>
                </a:cubicBezTo>
                <a:cubicBezTo>
                  <a:pt x="8607" y="9438"/>
                  <a:pt x="8651" y="9432"/>
                  <a:pt x="8731" y="9426"/>
                </a:cubicBezTo>
              </a:path>
              <a:path w="5259" h="3250">
                <a:moveTo>
                  <a:pt x="7045" y="9971"/>
                </a:moveTo>
                <a:cubicBezTo>
                  <a:pt x="7091" y="9903"/>
                  <a:pt x="7222" y="9803"/>
                  <a:pt x="7317" y="9897"/>
                </a:cubicBezTo>
                <a:cubicBezTo>
                  <a:pt x="7412" y="9992"/>
                  <a:pt x="7257" y="10080"/>
                  <a:pt x="7193" y="10096"/>
                </a:cubicBezTo>
                <a:cubicBezTo>
                  <a:pt x="7185" y="10096"/>
                  <a:pt x="7177" y="10096"/>
                  <a:pt x="7169" y="10096"/>
                </a:cubicBezTo>
                <a:cubicBezTo>
                  <a:pt x="7228" y="10102"/>
                  <a:pt x="7431" y="10133"/>
                  <a:pt x="7392" y="10244"/>
                </a:cubicBezTo>
                <a:cubicBezTo>
                  <a:pt x="7358" y="10341"/>
                  <a:pt x="7065" y="10445"/>
                  <a:pt x="6995" y="10344"/>
                </a:cubicBezTo>
                <a:cubicBezTo>
                  <a:pt x="7003" y="10327"/>
                  <a:pt x="7012" y="10311"/>
                  <a:pt x="7020" y="10294"/>
                </a:cubicBezTo>
              </a:path>
              <a:path w="5259" h="3250">
                <a:moveTo>
                  <a:pt x="7615" y="10195"/>
                </a:moveTo>
                <a:cubicBezTo>
                  <a:pt x="7635" y="10235"/>
                  <a:pt x="7644" y="10241"/>
                  <a:pt x="7640" y="10269"/>
                </a:cubicBezTo>
              </a:path>
              <a:path w="5259" h="3250">
                <a:moveTo>
                  <a:pt x="7640" y="10269"/>
                </a:moveTo>
                <a:lnTo>
                  <a:pt x="7640" y="10269"/>
                </a:lnTo>
              </a:path>
              <a:path w="5259" h="3250">
                <a:moveTo>
                  <a:pt x="8136" y="9847"/>
                </a:moveTo>
                <a:cubicBezTo>
                  <a:pt x="8076" y="9847"/>
                  <a:pt x="7945" y="9814"/>
                  <a:pt x="7913" y="9872"/>
                </a:cubicBezTo>
                <a:cubicBezTo>
                  <a:pt x="7891" y="9912"/>
                  <a:pt x="7872" y="9977"/>
                  <a:pt x="7863" y="10021"/>
                </a:cubicBezTo>
                <a:cubicBezTo>
                  <a:pt x="7976" y="10021"/>
                  <a:pt x="8069" y="9985"/>
                  <a:pt x="8186" y="9996"/>
                </a:cubicBezTo>
                <a:cubicBezTo>
                  <a:pt x="8379" y="10015"/>
                  <a:pt x="8369" y="10206"/>
                  <a:pt x="8210" y="10269"/>
                </a:cubicBezTo>
                <a:cubicBezTo>
                  <a:pt x="8094" y="10292"/>
                  <a:pt x="8061" y="10303"/>
                  <a:pt x="7987" y="10269"/>
                </a:cubicBezTo>
              </a:path>
              <a:path w="5259" h="3250">
                <a:moveTo>
                  <a:pt x="4415" y="8756"/>
                </a:moveTo>
                <a:cubicBezTo>
                  <a:pt x="4428" y="8915"/>
                  <a:pt x="4473" y="9068"/>
                  <a:pt x="4490" y="9227"/>
                </a:cubicBezTo>
                <a:cubicBezTo>
                  <a:pt x="4526" y="9560"/>
                  <a:pt x="4534" y="9915"/>
                  <a:pt x="4589" y="10244"/>
                </a:cubicBezTo>
                <a:cubicBezTo>
                  <a:pt x="4597" y="10292"/>
                  <a:pt x="4611" y="10318"/>
                  <a:pt x="4614" y="10368"/>
                </a:cubicBezTo>
                <a:cubicBezTo>
                  <a:pt x="4616" y="10409"/>
                  <a:pt x="4614" y="10451"/>
                  <a:pt x="4614" y="10492"/>
                </a:cubicBezTo>
              </a:path>
              <a:path w="5259" h="3250">
                <a:moveTo>
                  <a:pt x="5085" y="11584"/>
                </a:moveTo>
                <a:cubicBezTo>
                  <a:pt x="5085" y="11692"/>
                  <a:pt x="5124" y="11798"/>
                  <a:pt x="5135" y="11906"/>
                </a:cubicBezTo>
                <a:cubicBezTo>
                  <a:pt x="5135" y="11967"/>
                  <a:pt x="5125" y="11983"/>
                  <a:pt x="5159" y="12005"/>
                </a:cubicBezTo>
                <a:cubicBezTo>
                  <a:pt x="5143" y="11910"/>
                  <a:pt x="5116" y="11808"/>
                  <a:pt x="5135" y="11708"/>
                </a:cubicBezTo>
                <a:cubicBezTo>
                  <a:pt x="5148" y="11638"/>
                  <a:pt x="5262" y="11511"/>
                  <a:pt x="5333" y="11509"/>
                </a:cubicBezTo>
                <a:cubicBezTo>
                  <a:pt x="5471" y="11504"/>
                  <a:pt x="5539" y="11651"/>
                  <a:pt x="5581" y="11757"/>
                </a:cubicBezTo>
                <a:cubicBezTo>
                  <a:pt x="5603" y="11822"/>
                  <a:pt x="5611" y="11837"/>
                  <a:pt x="5606" y="11881"/>
                </a:cubicBezTo>
              </a:path>
              <a:path w="5259" h="3250">
                <a:moveTo>
                  <a:pt x="6028" y="11460"/>
                </a:moveTo>
                <a:cubicBezTo>
                  <a:pt x="6123" y="11460"/>
                  <a:pt x="6186" y="11422"/>
                  <a:pt x="6276" y="11410"/>
                </a:cubicBezTo>
                <a:cubicBezTo>
                  <a:pt x="6284" y="11410"/>
                  <a:pt x="6292" y="11410"/>
                  <a:pt x="6300" y="11410"/>
                </a:cubicBezTo>
              </a:path>
              <a:path w="5259" h="3250">
                <a:moveTo>
                  <a:pt x="6028" y="11658"/>
                </a:moveTo>
                <a:cubicBezTo>
                  <a:pt x="6130" y="11645"/>
                  <a:pt x="6182" y="11631"/>
                  <a:pt x="6276" y="11584"/>
                </a:cubicBezTo>
              </a:path>
              <a:path w="5259" h="3250">
                <a:moveTo>
                  <a:pt x="5159" y="9996"/>
                </a:moveTo>
                <a:cubicBezTo>
                  <a:pt x="5107" y="10009"/>
                  <a:pt x="5040" y="10029"/>
                  <a:pt x="4986" y="10046"/>
                </a:cubicBezTo>
                <a:cubicBezTo>
                  <a:pt x="4924" y="10066"/>
                  <a:pt x="4911" y="10063"/>
                  <a:pt x="4911" y="10120"/>
                </a:cubicBezTo>
                <a:cubicBezTo>
                  <a:pt x="4911" y="10166"/>
                  <a:pt x="4931" y="10179"/>
                  <a:pt x="4936" y="10220"/>
                </a:cubicBezTo>
                <a:cubicBezTo>
                  <a:pt x="4936" y="10228"/>
                  <a:pt x="4936" y="10236"/>
                  <a:pt x="4936" y="10244"/>
                </a:cubicBezTo>
                <a:cubicBezTo>
                  <a:pt x="4991" y="10244"/>
                  <a:pt x="4971" y="10225"/>
                  <a:pt x="5011" y="10220"/>
                </a:cubicBezTo>
                <a:cubicBezTo>
                  <a:pt x="5055" y="10215"/>
                  <a:pt x="5152" y="10208"/>
                  <a:pt x="5184" y="10244"/>
                </a:cubicBezTo>
                <a:cubicBezTo>
                  <a:pt x="5201" y="10264"/>
                  <a:pt x="5224" y="10338"/>
                  <a:pt x="5209" y="10368"/>
                </a:cubicBezTo>
                <a:cubicBezTo>
                  <a:pt x="5188" y="10410"/>
                  <a:pt x="5099" y="10469"/>
                  <a:pt x="5060" y="10492"/>
                </a:cubicBezTo>
                <a:cubicBezTo>
                  <a:pt x="5051" y="10498"/>
                  <a:pt x="4944" y="10550"/>
                  <a:pt x="4936" y="10542"/>
                </a:cubicBezTo>
                <a:cubicBezTo>
                  <a:pt x="4932" y="10538"/>
                  <a:pt x="4887" y="10492"/>
                  <a:pt x="4887" y="10492"/>
                </a:cubicBezTo>
                <a:cubicBezTo>
                  <a:pt x="4880" y="10477"/>
                  <a:pt x="4887" y="10435"/>
                  <a:pt x="4887" y="104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44920" y="2759040"/>
            <a:ext cx="1839960" cy="938160"/>
          </a:xfrm>
          <a:custGeom>
            <a:avLst/>
            <a:gdLst/>
            <a:ahLst/>
            <a:rect l="l" t="t" r="r" b="b"/>
            <a:pathLst>
              <a:path w="5111" h="2605">
                <a:moveTo>
                  <a:pt x="12129" y="8905"/>
                </a:moveTo>
                <a:cubicBezTo>
                  <a:pt x="12173" y="9082"/>
                  <a:pt x="12219" y="9240"/>
                  <a:pt x="12229" y="9426"/>
                </a:cubicBezTo>
                <a:cubicBezTo>
                  <a:pt x="12229" y="9494"/>
                  <a:pt x="12242" y="9497"/>
                  <a:pt x="12303" y="9401"/>
                </a:cubicBezTo>
              </a:path>
              <a:path w="5111" h="2605">
                <a:moveTo>
                  <a:pt x="12650" y="8905"/>
                </a:moveTo>
                <a:cubicBezTo>
                  <a:pt x="12468" y="9073"/>
                  <a:pt x="12434" y="9168"/>
                  <a:pt x="12477" y="9401"/>
                </a:cubicBezTo>
                <a:cubicBezTo>
                  <a:pt x="12664" y="9437"/>
                  <a:pt x="12890" y="9430"/>
                  <a:pt x="12874" y="9153"/>
                </a:cubicBezTo>
                <a:cubicBezTo>
                  <a:pt x="12862" y="8948"/>
                  <a:pt x="12717" y="8896"/>
                  <a:pt x="12576" y="8979"/>
                </a:cubicBezTo>
              </a:path>
              <a:path w="5111" h="2605">
                <a:moveTo>
                  <a:pt x="13320" y="9252"/>
                </a:moveTo>
                <a:cubicBezTo>
                  <a:pt x="13320" y="9331"/>
                  <a:pt x="13296" y="9360"/>
                  <a:pt x="13345" y="9376"/>
                </a:cubicBezTo>
              </a:path>
              <a:path w="5111" h="2605">
                <a:moveTo>
                  <a:pt x="13940" y="8781"/>
                </a:moveTo>
                <a:cubicBezTo>
                  <a:pt x="13875" y="8800"/>
                  <a:pt x="13703" y="8809"/>
                  <a:pt x="13692" y="8855"/>
                </a:cubicBezTo>
                <a:cubicBezTo>
                  <a:pt x="13678" y="8911"/>
                  <a:pt x="13673" y="8971"/>
                  <a:pt x="13667" y="9029"/>
                </a:cubicBezTo>
                <a:cubicBezTo>
                  <a:pt x="13790" y="9029"/>
                  <a:pt x="13919" y="8966"/>
                  <a:pt x="14039" y="8979"/>
                </a:cubicBezTo>
                <a:cubicBezTo>
                  <a:pt x="14199" y="8996"/>
                  <a:pt x="14378" y="9167"/>
                  <a:pt x="14163" y="9277"/>
                </a:cubicBezTo>
                <a:cubicBezTo>
                  <a:pt x="14037" y="9302"/>
                  <a:pt x="13993" y="9310"/>
                  <a:pt x="13915" y="9252"/>
                </a:cubicBezTo>
              </a:path>
              <a:path w="5111" h="2605">
                <a:moveTo>
                  <a:pt x="11782" y="9773"/>
                </a:moveTo>
                <a:cubicBezTo>
                  <a:pt x="11769" y="9587"/>
                  <a:pt x="11745" y="9387"/>
                  <a:pt x="11708" y="9203"/>
                </a:cubicBezTo>
                <a:cubicBezTo>
                  <a:pt x="11670" y="9013"/>
                  <a:pt x="11574" y="8841"/>
                  <a:pt x="11534" y="8657"/>
                </a:cubicBezTo>
                <a:cubicBezTo>
                  <a:pt x="11534" y="8640"/>
                  <a:pt x="11534" y="8624"/>
                  <a:pt x="11534" y="8607"/>
                </a:cubicBezTo>
                <a:cubicBezTo>
                  <a:pt x="11832" y="8544"/>
                  <a:pt x="12149" y="8507"/>
                  <a:pt x="12452" y="8483"/>
                </a:cubicBezTo>
                <a:cubicBezTo>
                  <a:pt x="13206" y="8423"/>
                  <a:pt x="13977" y="8441"/>
                  <a:pt x="14734" y="8434"/>
                </a:cubicBezTo>
                <a:cubicBezTo>
                  <a:pt x="14798" y="8433"/>
                  <a:pt x="14942" y="8457"/>
                  <a:pt x="14957" y="8458"/>
                </a:cubicBezTo>
              </a:path>
              <a:path w="5111" h="2605">
                <a:moveTo>
                  <a:pt x="9947" y="9178"/>
                </a:moveTo>
                <a:cubicBezTo>
                  <a:pt x="10037" y="9117"/>
                  <a:pt x="10117" y="9109"/>
                  <a:pt x="10220" y="9128"/>
                </a:cubicBezTo>
                <a:cubicBezTo>
                  <a:pt x="10233" y="9306"/>
                  <a:pt x="10140" y="9374"/>
                  <a:pt x="9971" y="9451"/>
                </a:cubicBezTo>
                <a:cubicBezTo>
                  <a:pt x="9963" y="9451"/>
                  <a:pt x="9955" y="9451"/>
                  <a:pt x="9947" y="9451"/>
                </a:cubicBezTo>
                <a:cubicBezTo>
                  <a:pt x="10064" y="9406"/>
                  <a:pt x="10264" y="9412"/>
                  <a:pt x="10269" y="9599"/>
                </a:cubicBezTo>
                <a:cubicBezTo>
                  <a:pt x="10275" y="9824"/>
                  <a:pt x="9987" y="9777"/>
                  <a:pt x="9872" y="9723"/>
                </a:cubicBezTo>
                <a:cubicBezTo>
                  <a:pt x="9834" y="9686"/>
                  <a:pt x="9841" y="9668"/>
                  <a:pt x="9922" y="9649"/>
                </a:cubicBezTo>
              </a:path>
              <a:path w="5111" h="2605">
                <a:moveTo>
                  <a:pt x="10616" y="9525"/>
                </a:moveTo>
                <a:cubicBezTo>
                  <a:pt x="10624" y="9601"/>
                  <a:pt x="10602" y="9631"/>
                  <a:pt x="10666" y="9599"/>
                </a:cubicBezTo>
              </a:path>
              <a:path w="5111" h="2605">
                <a:moveTo>
                  <a:pt x="11088" y="9079"/>
                </a:moveTo>
                <a:cubicBezTo>
                  <a:pt x="11033" y="9095"/>
                  <a:pt x="10874" y="9116"/>
                  <a:pt x="10840" y="9153"/>
                </a:cubicBezTo>
                <a:cubicBezTo>
                  <a:pt x="10796" y="9201"/>
                  <a:pt x="10815" y="9269"/>
                  <a:pt x="10815" y="9327"/>
                </a:cubicBezTo>
                <a:cubicBezTo>
                  <a:pt x="10923" y="9300"/>
                  <a:pt x="11000" y="9186"/>
                  <a:pt x="11137" y="9227"/>
                </a:cubicBezTo>
                <a:cubicBezTo>
                  <a:pt x="11295" y="9274"/>
                  <a:pt x="11380" y="9482"/>
                  <a:pt x="11237" y="9599"/>
                </a:cubicBezTo>
                <a:cubicBezTo>
                  <a:pt x="11168" y="9655"/>
                  <a:pt x="11097" y="9608"/>
                  <a:pt x="11038" y="9575"/>
                </a:cubicBezTo>
              </a:path>
              <a:path w="5111" h="2605">
                <a:moveTo>
                  <a:pt x="13692" y="7714"/>
                </a:moveTo>
                <a:cubicBezTo>
                  <a:pt x="13772" y="7704"/>
                  <a:pt x="13969" y="7610"/>
                  <a:pt x="14015" y="7714"/>
                </a:cubicBezTo>
                <a:cubicBezTo>
                  <a:pt x="14075" y="7848"/>
                  <a:pt x="13892" y="7911"/>
                  <a:pt x="13816" y="7962"/>
                </a:cubicBezTo>
                <a:cubicBezTo>
                  <a:pt x="13800" y="7962"/>
                  <a:pt x="13783" y="7962"/>
                  <a:pt x="13767" y="7962"/>
                </a:cubicBezTo>
                <a:cubicBezTo>
                  <a:pt x="13863" y="7921"/>
                  <a:pt x="14195" y="7877"/>
                  <a:pt x="14139" y="8111"/>
                </a:cubicBezTo>
                <a:cubicBezTo>
                  <a:pt x="14093" y="8302"/>
                  <a:pt x="13822" y="8294"/>
                  <a:pt x="13692" y="8235"/>
                </a:cubicBezTo>
                <a:cubicBezTo>
                  <a:pt x="13684" y="8227"/>
                  <a:pt x="13675" y="8218"/>
                  <a:pt x="13667" y="8210"/>
                </a:cubicBezTo>
              </a:path>
              <a:path w="5111" h="2605">
                <a:moveTo>
                  <a:pt x="10691" y="9773"/>
                </a:moveTo>
                <a:cubicBezTo>
                  <a:pt x="10699" y="9773"/>
                  <a:pt x="10708" y="9773"/>
                  <a:pt x="10716" y="9773"/>
                </a:cubicBezTo>
              </a:path>
              <a:path w="5111" h="2605">
                <a:moveTo>
                  <a:pt x="10666" y="9599"/>
                </a:moveTo>
                <a:lnTo>
                  <a:pt x="10666" y="9599"/>
                </a:lnTo>
              </a:path>
              <a:path w="5111" h="2605">
                <a:moveTo>
                  <a:pt x="10666" y="9599"/>
                </a:moveTo>
                <a:lnTo>
                  <a:pt x="10666" y="9599"/>
                </a:lnTo>
              </a:path>
              <a:path w="5111" h="2605">
                <a:moveTo>
                  <a:pt x="10666" y="9624"/>
                </a:moveTo>
                <a:lnTo>
                  <a:pt x="10666" y="9624"/>
                </a:lnTo>
              </a:path>
              <a:path w="5111" h="2605">
                <a:moveTo>
                  <a:pt x="10666" y="9624"/>
                </a:moveTo>
                <a:lnTo>
                  <a:pt x="10666" y="9624"/>
                </a:lnTo>
              </a:path>
              <a:path w="5111" h="2605">
                <a:moveTo>
                  <a:pt x="10542" y="9426"/>
                </a:moveTo>
                <a:cubicBezTo>
                  <a:pt x="10603" y="9434"/>
                  <a:pt x="10640" y="9459"/>
                  <a:pt x="10691" y="9475"/>
                </a:cubicBezTo>
                <a:cubicBezTo>
                  <a:pt x="10699" y="9475"/>
                  <a:pt x="10708" y="9475"/>
                  <a:pt x="10716" y="9475"/>
                </a:cubicBezTo>
              </a:path>
              <a:path w="5111" h="2605">
                <a:moveTo>
                  <a:pt x="10889" y="10269"/>
                </a:moveTo>
                <a:lnTo>
                  <a:pt x="10889" y="10269"/>
                </a:lnTo>
                <a:lnTo>
                  <a:pt x="10889" y="10269"/>
                </a:lnTo>
              </a:path>
              <a:path w="5111" h="2605">
                <a:moveTo>
                  <a:pt x="10889" y="10269"/>
                </a:moveTo>
                <a:lnTo>
                  <a:pt x="10889" y="10269"/>
                </a:lnTo>
              </a:path>
              <a:path w="5111" h="2605">
                <a:moveTo>
                  <a:pt x="10641" y="9525"/>
                </a:moveTo>
                <a:cubicBezTo>
                  <a:pt x="10666" y="9525"/>
                  <a:pt x="10674" y="9525"/>
                  <a:pt x="10691" y="9525"/>
                </a:cubicBezTo>
                <a:cubicBezTo>
                  <a:pt x="10699" y="9583"/>
                  <a:pt x="10733" y="9646"/>
                  <a:pt x="10740" y="9699"/>
                </a:cubicBezTo>
                <a:cubicBezTo>
                  <a:pt x="10749" y="9768"/>
                  <a:pt x="10721" y="9818"/>
                  <a:pt x="10765" y="9872"/>
                </a:cubicBezTo>
                <a:cubicBezTo>
                  <a:pt x="10800" y="9916"/>
                  <a:pt x="10780" y="9952"/>
                  <a:pt x="10815" y="9996"/>
                </a:cubicBezTo>
                <a:cubicBezTo>
                  <a:pt x="10844" y="10032"/>
                  <a:pt x="10860" y="10064"/>
                  <a:pt x="10889" y="10096"/>
                </a:cubicBezTo>
                <a:cubicBezTo>
                  <a:pt x="10918" y="10128"/>
                  <a:pt x="10943" y="10151"/>
                  <a:pt x="11013" y="10170"/>
                </a:cubicBezTo>
                <a:cubicBezTo>
                  <a:pt x="11078" y="10187"/>
                  <a:pt x="11159" y="10154"/>
                  <a:pt x="11212" y="10120"/>
                </a:cubicBezTo>
                <a:cubicBezTo>
                  <a:pt x="11264" y="10087"/>
                  <a:pt x="11293" y="10056"/>
                  <a:pt x="11336" y="10021"/>
                </a:cubicBezTo>
                <a:cubicBezTo>
                  <a:pt x="11365" y="9998"/>
                  <a:pt x="11439" y="9924"/>
                  <a:pt x="11460" y="9897"/>
                </a:cubicBezTo>
                <a:cubicBezTo>
                  <a:pt x="11490" y="9858"/>
                  <a:pt x="11468" y="9676"/>
                  <a:pt x="11485" y="9624"/>
                </a:cubicBezTo>
                <a:cubicBezTo>
                  <a:pt x="11502" y="9572"/>
                  <a:pt x="11422" y="9684"/>
                  <a:pt x="11410" y="9699"/>
                </a:cubicBezTo>
                <a:cubicBezTo>
                  <a:pt x="11371" y="9758"/>
                  <a:pt x="11367" y="9770"/>
                  <a:pt x="11336" y="9798"/>
                </a:cubicBezTo>
                <a:cubicBezTo>
                  <a:pt x="11362" y="9733"/>
                  <a:pt x="11423" y="9668"/>
                  <a:pt x="11460" y="9599"/>
                </a:cubicBezTo>
                <a:cubicBezTo>
                  <a:pt x="11480" y="9559"/>
                  <a:pt x="11478" y="9543"/>
                  <a:pt x="11509" y="9550"/>
                </a:cubicBezTo>
                <a:cubicBezTo>
                  <a:pt x="11590" y="9598"/>
                  <a:pt x="11576" y="9649"/>
                  <a:pt x="11609" y="9723"/>
                </a:cubicBezTo>
                <a:cubicBezTo>
                  <a:pt x="11621" y="9749"/>
                  <a:pt x="11641" y="9751"/>
                  <a:pt x="11658" y="9773"/>
                </a:cubicBezTo>
              </a:path>
              <a:path w="5111" h="2605">
                <a:moveTo>
                  <a:pt x="13370" y="9401"/>
                </a:moveTo>
                <a:cubicBezTo>
                  <a:pt x="13370" y="9475"/>
                  <a:pt x="13367" y="9538"/>
                  <a:pt x="13395" y="9599"/>
                </a:cubicBezTo>
                <a:cubicBezTo>
                  <a:pt x="13420" y="9652"/>
                  <a:pt x="13462" y="9688"/>
                  <a:pt x="13519" y="9723"/>
                </a:cubicBezTo>
                <a:cubicBezTo>
                  <a:pt x="13593" y="9769"/>
                  <a:pt x="13678" y="9834"/>
                  <a:pt x="13767" y="9847"/>
                </a:cubicBezTo>
                <a:cubicBezTo>
                  <a:pt x="13858" y="9861"/>
                  <a:pt x="13910" y="9853"/>
                  <a:pt x="13990" y="9847"/>
                </a:cubicBezTo>
                <a:cubicBezTo>
                  <a:pt x="14064" y="9841"/>
                  <a:pt x="14160" y="9809"/>
                  <a:pt x="14213" y="9748"/>
                </a:cubicBezTo>
                <a:cubicBezTo>
                  <a:pt x="14248" y="9707"/>
                  <a:pt x="14313" y="9656"/>
                  <a:pt x="14337" y="9624"/>
                </a:cubicBezTo>
                <a:cubicBezTo>
                  <a:pt x="14343" y="9617"/>
                  <a:pt x="14411" y="9507"/>
                  <a:pt x="14412" y="9500"/>
                </a:cubicBezTo>
                <a:cubicBezTo>
                  <a:pt x="14428" y="9424"/>
                  <a:pt x="14436" y="9358"/>
                  <a:pt x="14436" y="9277"/>
                </a:cubicBezTo>
                <a:cubicBezTo>
                  <a:pt x="14436" y="9207"/>
                  <a:pt x="14440" y="9219"/>
                  <a:pt x="14461" y="9178"/>
                </a:cubicBezTo>
              </a:path>
              <a:path w="5111" h="2605">
                <a:moveTo>
                  <a:pt x="14635" y="9054"/>
                </a:moveTo>
                <a:cubicBezTo>
                  <a:pt x="14560" y="9024"/>
                  <a:pt x="14533" y="9069"/>
                  <a:pt x="14511" y="9153"/>
                </a:cubicBezTo>
                <a:cubicBezTo>
                  <a:pt x="14511" y="9178"/>
                  <a:pt x="14511" y="9186"/>
                  <a:pt x="14536" y="9178"/>
                </a:cubicBezTo>
                <a:cubicBezTo>
                  <a:pt x="14623" y="9140"/>
                  <a:pt x="14605" y="8981"/>
                  <a:pt x="14536" y="9029"/>
                </a:cubicBezTo>
                <a:cubicBezTo>
                  <a:pt x="14456" y="9085"/>
                  <a:pt x="14445" y="9270"/>
                  <a:pt x="14585" y="9128"/>
                </a:cubicBezTo>
                <a:cubicBezTo>
                  <a:pt x="14564" y="9003"/>
                  <a:pt x="14523" y="9146"/>
                  <a:pt x="14511" y="9203"/>
                </a:cubicBezTo>
              </a:path>
              <a:path w="5111" h="2605">
                <a:moveTo>
                  <a:pt x="14511" y="8186"/>
                </a:moveTo>
                <a:cubicBezTo>
                  <a:pt x="14511" y="8112"/>
                  <a:pt x="14495" y="8272"/>
                  <a:pt x="14536" y="8260"/>
                </a:cubicBezTo>
                <a:cubicBezTo>
                  <a:pt x="14659" y="8225"/>
                  <a:pt x="14598" y="8083"/>
                  <a:pt x="14560" y="8111"/>
                </a:cubicBezTo>
                <a:cubicBezTo>
                  <a:pt x="14535" y="8136"/>
                  <a:pt x="14511" y="8161"/>
                  <a:pt x="14486" y="8186"/>
                </a:cubicBezTo>
                <a:cubicBezTo>
                  <a:pt x="14486" y="8227"/>
                  <a:pt x="14478" y="8243"/>
                  <a:pt x="14511" y="8235"/>
                </a:cubicBezTo>
                <a:cubicBezTo>
                  <a:pt x="14614" y="8184"/>
                  <a:pt x="14518" y="8074"/>
                  <a:pt x="14511" y="8210"/>
                </a:cubicBezTo>
                <a:cubicBezTo>
                  <a:pt x="14519" y="8227"/>
                  <a:pt x="14528" y="8243"/>
                  <a:pt x="14536" y="82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96040" y="2544840"/>
            <a:ext cx="1143000" cy="1233360"/>
          </a:xfrm>
          <a:custGeom>
            <a:avLst/>
            <a:gdLst/>
            <a:ahLst/>
            <a:rect l="l" t="t" r="r" b="b"/>
            <a:pathLst>
              <a:path w="3176" h="3424">
                <a:moveTo>
                  <a:pt x="18529" y="7764"/>
                </a:moveTo>
                <a:cubicBezTo>
                  <a:pt x="18620" y="7673"/>
                  <a:pt x="18631" y="7664"/>
                  <a:pt x="18752" y="7640"/>
                </a:cubicBezTo>
                <a:cubicBezTo>
                  <a:pt x="18847" y="7817"/>
                  <a:pt x="18803" y="7939"/>
                  <a:pt x="18628" y="8086"/>
                </a:cubicBezTo>
                <a:cubicBezTo>
                  <a:pt x="18596" y="8086"/>
                  <a:pt x="18588" y="8078"/>
                  <a:pt x="18604" y="8037"/>
                </a:cubicBezTo>
                <a:cubicBezTo>
                  <a:pt x="18765" y="7974"/>
                  <a:pt x="18904" y="8014"/>
                  <a:pt x="18876" y="8235"/>
                </a:cubicBezTo>
                <a:cubicBezTo>
                  <a:pt x="18846" y="8468"/>
                  <a:pt x="18565" y="8478"/>
                  <a:pt x="18405" y="8384"/>
                </a:cubicBezTo>
                <a:cubicBezTo>
                  <a:pt x="18405" y="8344"/>
                  <a:pt x="18416" y="8325"/>
                  <a:pt x="18455" y="8310"/>
                </a:cubicBezTo>
              </a:path>
              <a:path w="3176" h="3424">
                <a:moveTo>
                  <a:pt x="19248" y="8186"/>
                </a:moveTo>
                <a:cubicBezTo>
                  <a:pt x="19259" y="8221"/>
                  <a:pt x="19273" y="8335"/>
                  <a:pt x="19298" y="8285"/>
                </a:cubicBezTo>
              </a:path>
              <a:path w="3176" h="3424">
                <a:moveTo>
                  <a:pt x="20017" y="7590"/>
                </a:moveTo>
                <a:cubicBezTo>
                  <a:pt x="19959" y="7636"/>
                  <a:pt x="19853" y="7599"/>
                  <a:pt x="19819" y="7665"/>
                </a:cubicBezTo>
                <a:cubicBezTo>
                  <a:pt x="19792" y="7718"/>
                  <a:pt x="19777" y="7829"/>
                  <a:pt x="19769" y="7888"/>
                </a:cubicBezTo>
                <a:cubicBezTo>
                  <a:pt x="19901" y="7868"/>
                  <a:pt x="20081" y="7777"/>
                  <a:pt x="20216" y="7863"/>
                </a:cubicBezTo>
                <a:cubicBezTo>
                  <a:pt x="20484" y="8035"/>
                  <a:pt x="20105" y="8157"/>
                  <a:pt x="19993" y="8186"/>
                </a:cubicBezTo>
              </a:path>
              <a:path w="3176" h="3424">
                <a:moveTo>
                  <a:pt x="17909" y="9004"/>
                </a:moveTo>
                <a:cubicBezTo>
                  <a:pt x="18042" y="9137"/>
                  <a:pt x="18129" y="9243"/>
                  <a:pt x="18182" y="9426"/>
                </a:cubicBezTo>
                <a:cubicBezTo>
                  <a:pt x="18182" y="9434"/>
                  <a:pt x="18182" y="9443"/>
                  <a:pt x="18182" y="9451"/>
                </a:cubicBezTo>
              </a:path>
              <a:path w="3176" h="3424">
                <a:moveTo>
                  <a:pt x="18182" y="9103"/>
                </a:moveTo>
                <a:cubicBezTo>
                  <a:pt x="18174" y="9128"/>
                  <a:pt x="17961" y="9764"/>
                  <a:pt x="18033" y="9550"/>
                </a:cubicBezTo>
              </a:path>
              <a:path w="3176" h="3424">
                <a:moveTo>
                  <a:pt x="19745" y="8706"/>
                </a:moveTo>
                <a:cubicBezTo>
                  <a:pt x="19803" y="8620"/>
                  <a:pt x="19962" y="8481"/>
                  <a:pt x="20092" y="8533"/>
                </a:cubicBezTo>
                <a:cubicBezTo>
                  <a:pt x="20273" y="8605"/>
                  <a:pt x="20024" y="8833"/>
                  <a:pt x="19968" y="8880"/>
                </a:cubicBezTo>
                <a:cubicBezTo>
                  <a:pt x="19985" y="8779"/>
                  <a:pt x="20107" y="8679"/>
                  <a:pt x="20216" y="8781"/>
                </a:cubicBezTo>
                <a:cubicBezTo>
                  <a:pt x="20440" y="8990"/>
                  <a:pt x="20072" y="9147"/>
                  <a:pt x="19918" y="9153"/>
                </a:cubicBezTo>
                <a:cubicBezTo>
                  <a:pt x="19877" y="9145"/>
                  <a:pt x="19835" y="9136"/>
                  <a:pt x="19794" y="9128"/>
                </a:cubicBezTo>
              </a:path>
              <a:path w="3176" h="3424">
                <a:moveTo>
                  <a:pt x="17487" y="9872"/>
                </a:moveTo>
                <a:cubicBezTo>
                  <a:pt x="17721" y="9756"/>
                  <a:pt x="17948" y="9740"/>
                  <a:pt x="18207" y="9699"/>
                </a:cubicBezTo>
                <a:cubicBezTo>
                  <a:pt x="18968" y="9579"/>
                  <a:pt x="19746" y="9482"/>
                  <a:pt x="20513" y="9401"/>
                </a:cubicBezTo>
                <a:cubicBezTo>
                  <a:pt x="20793" y="9371"/>
                  <a:pt x="20560" y="9392"/>
                  <a:pt x="20662" y="9376"/>
                </a:cubicBezTo>
              </a:path>
              <a:path w="3176" h="3424">
                <a:moveTo>
                  <a:pt x="20414" y="9599"/>
                </a:moveTo>
                <a:cubicBezTo>
                  <a:pt x="20362" y="9621"/>
                  <a:pt x="20143" y="9648"/>
                  <a:pt x="20117" y="9674"/>
                </a:cubicBezTo>
                <a:cubicBezTo>
                  <a:pt x="20088" y="9704"/>
                  <a:pt x="20119" y="9868"/>
                  <a:pt x="20092" y="9922"/>
                </a:cubicBezTo>
                <a:cubicBezTo>
                  <a:pt x="20188" y="9922"/>
                  <a:pt x="20265" y="9870"/>
                  <a:pt x="20365" y="9872"/>
                </a:cubicBezTo>
                <a:cubicBezTo>
                  <a:pt x="20581" y="9877"/>
                  <a:pt x="20633" y="10087"/>
                  <a:pt x="20439" y="10195"/>
                </a:cubicBezTo>
                <a:cubicBezTo>
                  <a:pt x="20258" y="10246"/>
                  <a:pt x="20192" y="10261"/>
                  <a:pt x="20067" y="10195"/>
                </a:cubicBezTo>
              </a:path>
              <a:path w="3176" h="3424">
                <a:moveTo>
                  <a:pt x="18207" y="7069"/>
                </a:moveTo>
                <a:cubicBezTo>
                  <a:pt x="18207" y="7205"/>
                  <a:pt x="18225" y="7332"/>
                  <a:pt x="18231" y="7466"/>
                </a:cubicBezTo>
                <a:cubicBezTo>
                  <a:pt x="18231" y="7474"/>
                  <a:pt x="18231" y="7483"/>
                  <a:pt x="18231" y="7491"/>
                </a:cubicBezTo>
              </a:path>
              <a:path w="3176" h="3424">
                <a:moveTo>
                  <a:pt x="18479" y="9947"/>
                </a:moveTo>
                <a:cubicBezTo>
                  <a:pt x="18479" y="9861"/>
                  <a:pt x="18577" y="10253"/>
                  <a:pt x="18579" y="10269"/>
                </a:cubicBezTo>
                <a:cubicBezTo>
                  <a:pt x="18590" y="10360"/>
                  <a:pt x="18549" y="10487"/>
                  <a:pt x="18604" y="10344"/>
                </a:cubicBezTo>
              </a:path>
              <a:path w="3176" h="3424">
                <a:moveTo>
                  <a:pt x="18976" y="9897"/>
                </a:moveTo>
                <a:cubicBezTo>
                  <a:pt x="18950" y="10027"/>
                  <a:pt x="18862" y="10151"/>
                  <a:pt x="18876" y="10294"/>
                </a:cubicBezTo>
                <a:cubicBezTo>
                  <a:pt x="18922" y="10409"/>
                  <a:pt x="18932" y="10444"/>
                  <a:pt x="19000" y="10492"/>
                </a:cubicBezTo>
                <a:cubicBezTo>
                  <a:pt x="19174" y="10360"/>
                  <a:pt x="19359" y="10244"/>
                  <a:pt x="19224" y="9996"/>
                </a:cubicBezTo>
                <a:cubicBezTo>
                  <a:pt x="19190" y="9934"/>
                  <a:pt x="19059" y="9921"/>
                  <a:pt x="19000" y="9897"/>
                </a:cubicBezTo>
              </a:path>
              <a:path w="3176" h="3424">
                <a:moveTo>
                  <a:pt x="19621" y="10294"/>
                </a:moveTo>
                <a:cubicBezTo>
                  <a:pt x="19621" y="10286"/>
                  <a:pt x="19621" y="10277"/>
                  <a:pt x="19621" y="10269"/>
                </a:cubicBezTo>
                <a:cubicBezTo>
                  <a:pt x="19608" y="10332"/>
                  <a:pt x="19577" y="10362"/>
                  <a:pt x="19621" y="10418"/>
                </a:cubicBezTo>
                <a:cubicBezTo>
                  <a:pt x="19691" y="10507"/>
                  <a:pt x="19773" y="10313"/>
                  <a:pt x="19745" y="10294"/>
                </a:cubicBezTo>
                <a:cubicBezTo>
                  <a:pt x="19699" y="10263"/>
                  <a:pt x="19564" y="10373"/>
                  <a:pt x="19596" y="10393"/>
                </a:cubicBezTo>
                <a:cubicBezTo>
                  <a:pt x="19645" y="10393"/>
                  <a:pt x="19662" y="10393"/>
                  <a:pt x="19695" y="10393"/>
                </a:cubicBezTo>
                <a:cubicBezTo>
                  <a:pt x="19695" y="10293"/>
                  <a:pt x="19667" y="10256"/>
                  <a:pt x="19621" y="10368"/>
                </a:cubicBezTo>
                <a:cubicBezTo>
                  <a:pt x="19621" y="10376"/>
                  <a:pt x="19621" y="10385"/>
                  <a:pt x="19621" y="10393"/>
                </a:cubicBezTo>
                <a:cubicBezTo>
                  <a:pt x="19702" y="10405"/>
                  <a:pt x="19758" y="10275"/>
                  <a:pt x="19670" y="10319"/>
                </a:cubicBezTo>
                <a:cubicBezTo>
                  <a:pt x="19662" y="10327"/>
                  <a:pt x="19653" y="10336"/>
                  <a:pt x="19645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47840" y="4991040"/>
            <a:ext cx="384120" cy="223920"/>
          </a:xfrm>
          <a:custGeom>
            <a:avLst/>
            <a:gdLst/>
            <a:ahLst/>
            <a:rect l="l" t="t" r="r" b="b"/>
            <a:pathLst>
              <a:path w="1067" h="621">
                <a:moveTo>
                  <a:pt x="3770" y="13915"/>
                </a:moveTo>
                <a:cubicBezTo>
                  <a:pt x="3654" y="13915"/>
                  <a:pt x="3952" y="13895"/>
                  <a:pt x="4068" y="13891"/>
                </a:cubicBezTo>
                <a:cubicBezTo>
                  <a:pt x="4295" y="13882"/>
                  <a:pt x="4515" y="13895"/>
                  <a:pt x="4738" y="13866"/>
                </a:cubicBezTo>
                <a:cubicBezTo>
                  <a:pt x="4762" y="13863"/>
                  <a:pt x="4788" y="13866"/>
                  <a:pt x="4812" y="13866"/>
                </a:cubicBezTo>
              </a:path>
              <a:path w="1067" h="621">
                <a:moveTo>
                  <a:pt x="4068" y="13990"/>
                </a:moveTo>
                <a:cubicBezTo>
                  <a:pt x="4068" y="14086"/>
                  <a:pt x="4038" y="14169"/>
                  <a:pt x="4018" y="14263"/>
                </a:cubicBezTo>
                <a:cubicBezTo>
                  <a:pt x="4009" y="14304"/>
                  <a:pt x="3950" y="14480"/>
                  <a:pt x="4043" y="14486"/>
                </a:cubicBezTo>
                <a:cubicBezTo>
                  <a:pt x="4132" y="14492"/>
                  <a:pt x="4297" y="14488"/>
                  <a:pt x="4341" y="14412"/>
                </a:cubicBezTo>
                <a:cubicBezTo>
                  <a:pt x="4366" y="14369"/>
                  <a:pt x="4419" y="14306"/>
                  <a:pt x="4366" y="14288"/>
                </a:cubicBezTo>
                <a:cubicBezTo>
                  <a:pt x="4270" y="14264"/>
                  <a:pt x="4281" y="14278"/>
                  <a:pt x="4242" y="14362"/>
                </a:cubicBezTo>
                <a:cubicBezTo>
                  <a:pt x="4219" y="14411"/>
                  <a:pt x="4217" y="14414"/>
                  <a:pt x="4217" y="144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12960" y="5616720"/>
            <a:ext cx="679320" cy="322200"/>
          </a:xfrm>
          <a:custGeom>
            <a:avLst/>
            <a:gdLst/>
            <a:ahLst/>
            <a:rect l="l" t="t" r="r" b="b"/>
            <a:pathLst>
              <a:path w="1887" h="894">
                <a:moveTo>
                  <a:pt x="6796" y="15900"/>
                </a:moveTo>
                <a:cubicBezTo>
                  <a:pt x="6879" y="16056"/>
                  <a:pt x="6989" y="16211"/>
                  <a:pt x="6896" y="16396"/>
                </a:cubicBezTo>
                <a:cubicBezTo>
                  <a:pt x="6808" y="16570"/>
                  <a:pt x="6545" y="16489"/>
                  <a:pt x="6474" y="16346"/>
                </a:cubicBezTo>
                <a:cubicBezTo>
                  <a:pt x="6419" y="16235"/>
                  <a:pt x="6563" y="16138"/>
                  <a:pt x="6623" y="16073"/>
                </a:cubicBezTo>
              </a:path>
              <a:path w="1887" h="894">
                <a:moveTo>
                  <a:pt x="6772" y="15701"/>
                </a:moveTo>
                <a:cubicBezTo>
                  <a:pt x="6772" y="15709"/>
                  <a:pt x="6772" y="15718"/>
                  <a:pt x="6772" y="15726"/>
                </a:cubicBezTo>
              </a:path>
              <a:path w="1887" h="894">
                <a:moveTo>
                  <a:pt x="5879" y="15949"/>
                </a:moveTo>
                <a:cubicBezTo>
                  <a:pt x="5920" y="15949"/>
                  <a:pt x="5962" y="15949"/>
                  <a:pt x="6003" y="15949"/>
                </a:cubicBezTo>
              </a:path>
              <a:path w="1887" h="894">
                <a:moveTo>
                  <a:pt x="5904" y="16049"/>
                </a:moveTo>
                <a:cubicBezTo>
                  <a:pt x="5968" y="16049"/>
                  <a:pt x="5968" y="16050"/>
                  <a:pt x="6028" y="16024"/>
                </a:cubicBezTo>
              </a:path>
              <a:path w="1887" h="894">
                <a:moveTo>
                  <a:pt x="5184" y="15627"/>
                </a:moveTo>
                <a:cubicBezTo>
                  <a:pt x="5184" y="15562"/>
                  <a:pt x="5165" y="15832"/>
                  <a:pt x="5159" y="15850"/>
                </a:cubicBezTo>
                <a:cubicBezTo>
                  <a:pt x="5129" y="15942"/>
                  <a:pt x="5004" y="16067"/>
                  <a:pt x="5035" y="16173"/>
                </a:cubicBezTo>
                <a:cubicBezTo>
                  <a:pt x="5056" y="16245"/>
                  <a:pt x="5095" y="16283"/>
                  <a:pt x="5184" y="16297"/>
                </a:cubicBezTo>
                <a:cubicBezTo>
                  <a:pt x="5307" y="16316"/>
                  <a:pt x="5431" y="16232"/>
                  <a:pt x="5482" y="16123"/>
                </a:cubicBezTo>
                <a:cubicBezTo>
                  <a:pt x="5499" y="16088"/>
                  <a:pt x="5512" y="16038"/>
                  <a:pt x="5531" y="15999"/>
                </a:cubicBezTo>
                <a:cubicBezTo>
                  <a:pt x="5495" y="15986"/>
                  <a:pt x="5491" y="15975"/>
                  <a:pt x="5432" y="15999"/>
                </a:cubicBezTo>
                <a:cubicBezTo>
                  <a:pt x="5342" y="16035"/>
                  <a:pt x="5335" y="15972"/>
                  <a:pt x="5283" y="16073"/>
                </a:cubicBezTo>
                <a:cubicBezTo>
                  <a:pt x="5244" y="16148"/>
                  <a:pt x="5276" y="16158"/>
                  <a:pt x="5283" y="16222"/>
                </a:cubicBezTo>
                <a:cubicBezTo>
                  <a:pt x="5283" y="16230"/>
                  <a:pt x="5283" y="16239"/>
                  <a:pt x="5283" y="162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33880" y="4606920"/>
            <a:ext cx="795240" cy="322200"/>
          </a:xfrm>
          <a:custGeom>
            <a:avLst/>
            <a:gdLst/>
            <a:ahLst/>
            <a:rect l="l" t="t" r="r" b="b"/>
            <a:pathLst>
              <a:path w="2208" h="894">
                <a:moveTo>
                  <a:pt x="11559" y="12923"/>
                </a:moveTo>
                <a:cubicBezTo>
                  <a:pt x="11532" y="13111"/>
                  <a:pt x="11423" y="13377"/>
                  <a:pt x="11485" y="13568"/>
                </a:cubicBezTo>
                <a:cubicBezTo>
                  <a:pt x="11510" y="13593"/>
                  <a:pt x="11534" y="13618"/>
                  <a:pt x="11559" y="13643"/>
                </a:cubicBezTo>
                <a:cubicBezTo>
                  <a:pt x="11749" y="13560"/>
                  <a:pt x="11780" y="13546"/>
                  <a:pt x="11881" y="13370"/>
                </a:cubicBezTo>
                <a:cubicBezTo>
                  <a:pt x="11744" y="13370"/>
                  <a:pt x="11575" y="13477"/>
                  <a:pt x="11633" y="13667"/>
                </a:cubicBezTo>
                <a:cubicBezTo>
                  <a:pt x="11650" y="13675"/>
                  <a:pt x="11666" y="13684"/>
                  <a:pt x="11683" y="13692"/>
                </a:cubicBezTo>
              </a:path>
              <a:path w="2208" h="894">
                <a:moveTo>
                  <a:pt x="12204" y="12799"/>
                </a:moveTo>
                <a:cubicBezTo>
                  <a:pt x="12143" y="13022"/>
                  <a:pt x="11926" y="13465"/>
                  <a:pt x="12129" y="13667"/>
                </a:cubicBezTo>
                <a:cubicBezTo>
                  <a:pt x="12277" y="13697"/>
                  <a:pt x="12340" y="13693"/>
                  <a:pt x="12427" y="13593"/>
                </a:cubicBezTo>
              </a:path>
              <a:path w="2208" h="894">
                <a:moveTo>
                  <a:pt x="12477" y="13022"/>
                </a:moveTo>
                <a:cubicBezTo>
                  <a:pt x="12451" y="13066"/>
                  <a:pt x="12452" y="13093"/>
                  <a:pt x="12452" y="13146"/>
                </a:cubicBezTo>
                <a:cubicBezTo>
                  <a:pt x="12452" y="13154"/>
                  <a:pt x="12452" y="13163"/>
                  <a:pt x="12452" y="13171"/>
                </a:cubicBezTo>
                <a:cubicBezTo>
                  <a:pt x="12445" y="13144"/>
                  <a:pt x="12434" y="13075"/>
                  <a:pt x="12427" y="13122"/>
                </a:cubicBezTo>
                <a:cubicBezTo>
                  <a:pt x="12412" y="13215"/>
                  <a:pt x="12354" y="13479"/>
                  <a:pt x="12551" y="13444"/>
                </a:cubicBezTo>
                <a:cubicBezTo>
                  <a:pt x="12657" y="13425"/>
                  <a:pt x="12698" y="13352"/>
                  <a:pt x="12725" y="13271"/>
                </a:cubicBezTo>
                <a:cubicBezTo>
                  <a:pt x="12649" y="13290"/>
                  <a:pt x="12530" y="13504"/>
                  <a:pt x="12650" y="13494"/>
                </a:cubicBezTo>
                <a:cubicBezTo>
                  <a:pt x="12683" y="13469"/>
                  <a:pt x="12717" y="13444"/>
                  <a:pt x="12750" y="13419"/>
                </a:cubicBezTo>
              </a:path>
              <a:path w="2208" h="894">
                <a:moveTo>
                  <a:pt x="12799" y="12799"/>
                </a:moveTo>
                <a:cubicBezTo>
                  <a:pt x="12994" y="13024"/>
                  <a:pt x="13299" y="13323"/>
                  <a:pt x="12923" y="13568"/>
                </a:cubicBezTo>
                <a:cubicBezTo>
                  <a:pt x="12873" y="13576"/>
                  <a:pt x="12824" y="13585"/>
                  <a:pt x="12774" y="13593"/>
                </a:cubicBezTo>
              </a:path>
              <a:path w="2208" h="894">
                <a:moveTo>
                  <a:pt x="13395" y="12998"/>
                </a:moveTo>
                <a:cubicBezTo>
                  <a:pt x="13497" y="12981"/>
                  <a:pt x="13587" y="12973"/>
                  <a:pt x="13692" y="12973"/>
                </a:cubicBezTo>
              </a:path>
              <a:path w="2208" h="894">
                <a:moveTo>
                  <a:pt x="13444" y="13196"/>
                </a:moveTo>
                <a:cubicBezTo>
                  <a:pt x="13510" y="13179"/>
                  <a:pt x="13577" y="13163"/>
                  <a:pt x="13643" y="131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89680" y="4616280"/>
            <a:ext cx="420480" cy="250920"/>
          </a:xfrm>
          <a:custGeom>
            <a:avLst/>
            <a:gdLst/>
            <a:ahLst/>
            <a:rect l="l" t="t" r="r" b="b"/>
            <a:pathLst>
              <a:path w="1166" h="696">
                <a:moveTo>
                  <a:pt x="14139" y="12898"/>
                </a:moveTo>
                <a:cubicBezTo>
                  <a:pt x="14205" y="12870"/>
                  <a:pt x="14478" y="12771"/>
                  <a:pt x="14461" y="12948"/>
                </a:cubicBezTo>
                <a:cubicBezTo>
                  <a:pt x="14410" y="13051"/>
                  <a:pt x="14390" y="13087"/>
                  <a:pt x="14312" y="13122"/>
                </a:cubicBezTo>
                <a:cubicBezTo>
                  <a:pt x="14304" y="13130"/>
                  <a:pt x="14296" y="13138"/>
                  <a:pt x="14288" y="13146"/>
                </a:cubicBezTo>
                <a:cubicBezTo>
                  <a:pt x="14370" y="13065"/>
                  <a:pt x="14583" y="13066"/>
                  <a:pt x="14635" y="13221"/>
                </a:cubicBezTo>
                <a:cubicBezTo>
                  <a:pt x="14734" y="13518"/>
                  <a:pt x="14314" y="13363"/>
                  <a:pt x="14238" y="13320"/>
                </a:cubicBezTo>
              </a:path>
              <a:path w="1166" h="696">
                <a:moveTo>
                  <a:pt x="14833" y="12824"/>
                </a:moveTo>
                <a:cubicBezTo>
                  <a:pt x="14822" y="12981"/>
                  <a:pt x="14745" y="13225"/>
                  <a:pt x="14833" y="13370"/>
                </a:cubicBezTo>
                <a:cubicBezTo>
                  <a:pt x="14941" y="13549"/>
                  <a:pt x="15289" y="13445"/>
                  <a:pt x="15304" y="13246"/>
                </a:cubicBezTo>
                <a:cubicBezTo>
                  <a:pt x="15318" y="13053"/>
                  <a:pt x="15025" y="13464"/>
                  <a:pt x="15007" y="135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6400800" cy="2032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nit 5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Expressions, Equations and Integers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tions 12.4: Solving Division Equation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Objective: Determine the unknown in a linear equ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36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00"/>
                </a:solidFill>
                <a:uFillTx/>
                <a:latin typeface="Comic Sans MS"/>
              </a:rPr>
              <a:t>Solving Division Equ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- To solve a division equation, multiply each side by the divisor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4170240" y="2847960"/>
            <a:ext cx="3803760" cy="957240"/>
          </a:xfrm>
          <a:custGeom>
            <a:avLst/>
            <a:gdLst/>
            <a:ahLst/>
            <a:rect l="l" t="t" r="r" b="b"/>
            <a:pathLst>
              <a:path w="10568" h="2655">
                <a:moveTo>
                  <a:pt x="15329" y="7913"/>
                </a:moveTo>
                <a:lnTo>
                  <a:pt x="15329" y="7913"/>
                </a:lnTo>
              </a:path>
              <a:path w="10568" h="2655">
                <a:moveTo>
                  <a:pt x="18455" y="8905"/>
                </a:moveTo>
                <a:cubicBezTo>
                  <a:pt x="18478" y="8899"/>
                  <a:pt x="18537" y="8869"/>
                  <a:pt x="18604" y="8880"/>
                </a:cubicBezTo>
                <a:cubicBezTo>
                  <a:pt x="18751" y="8903"/>
                  <a:pt x="18903" y="8907"/>
                  <a:pt x="19050" y="8930"/>
                </a:cubicBezTo>
                <a:cubicBezTo>
                  <a:pt x="19244" y="8961"/>
                  <a:pt x="19449" y="8983"/>
                  <a:pt x="19645" y="9004"/>
                </a:cubicBezTo>
                <a:cubicBezTo>
                  <a:pt x="19766" y="9017"/>
                  <a:pt x="19896" y="9026"/>
                  <a:pt x="20017" y="9029"/>
                </a:cubicBezTo>
                <a:cubicBezTo>
                  <a:pt x="20227" y="9034"/>
                  <a:pt x="20431" y="9015"/>
                  <a:pt x="20638" y="9004"/>
                </a:cubicBezTo>
                <a:cubicBezTo>
                  <a:pt x="20886" y="8990"/>
                  <a:pt x="21135" y="8999"/>
                  <a:pt x="21382" y="8979"/>
                </a:cubicBezTo>
                <a:cubicBezTo>
                  <a:pt x="21607" y="8961"/>
                  <a:pt x="21825" y="8954"/>
                  <a:pt x="22051" y="8954"/>
                </a:cubicBezTo>
                <a:cubicBezTo>
                  <a:pt x="22109" y="8954"/>
                  <a:pt x="22118" y="8954"/>
                  <a:pt x="22151" y="8954"/>
                </a:cubicBezTo>
              </a:path>
              <a:path w="10568" h="2655">
                <a:moveTo>
                  <a:pt x="11584" y="10418"/>
                </a:moveTo>
                <a:cubicBezTo>
                  <a:pt x="11601" y="10406"/>
                  <a:pt x="11635" y="10373"/>
                  <a:pt x="11683" y="10368"/>
                </a:cubicBezTo>
                <a:cubicBezTo>
                  <a:pt x="11781" y="10357"/>
                  <a:pt x="11887" y="10394"/>
                  <a:pt x="11981" y="10418"/>
                </a:cubicBezTo>
                <a:cubicBezTo>
                  <a:pt x="12139" y="10458"/>
                  <a:pt x="12294" y="10460"/>
                  <a:pt x="12452" y="10492"/>
                </a:cubicBezTo>
                <a:cubicBezTo>
                  <a:pt x="12576" y="10517"/>
                  <a:pt x="12700" y="10521"/>
                  <a:pt x="12824" y="10542"/>
                </a:cubicBezTo>
                <a:cubicBezTo>
                  <a:pt x="12967" y="10566"/>
                  <a:pt x="13100" y="10567"/>
                  <a:pt x="13246" y="10567"/>
                </a:cubicBezTo>
                <a:cubicBezTo>
                  <a:pt x="13407" y="10567"/>
                  <a:pt x="13560" y="10555"/>
                  <a:pt x="13717" y="10542"/>
                </a:cubicBezTo>
                <a:cubicBezTo>
                  <a:pt x="13865" y="10530"/>
                  <a:pt x="14015" y="10521"/>
                  <a:pt x="14163" y="10517"/>
                </a:cubicBezTo>
                <a:cubicBezTo>
                  <a:pt x="14289" y="10514"/>
                  <a:pt x="14409" y="10492"/>
                  <a:pt x="14536" y="10492"/>
                </a:cubicBezTo>
                <a:cubicBezTo>
                  <a:pt x="14560" y="10492"/>
                  <a:pt x="14569" y="10492"/>
                  <a:pt x="14585" y="104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41320" y="4152960"/>
            <a:ext cx="803520" cy="615960"/>
          </a:xfrm>
          <a:custGeom>
            <a:avLst/>
            <a:gdLst/>
            <a:ahLst/>
            <a:rect l="l" t="t" r="r" b="b"/>
            <a:pathLst>
              <a:path w="2233" h="1713">
                <a:moveTo>
                  <a:pt x="6003" y="12874"/>
                </a:moveTo>
                <a:cubicBezTo>
                  <a:pt x="6066" y="12874"/>
                  <a:pt x="6114" y="12872"/>
                  <a:pt x="6176" y="12898"/>
                </a:cubicBezTo>
                <a:cubicBezTo>
                  <a:pt x="6326" y="12961"/>
                  <a:pt x="6472" y="13035"/>
                  <a:pt x="6623" y="13097"/>
                </a:cubicBezTo>
                <a:cubicBezTo>
                  <a:pt x="6647" y="13107"/>
                  <a:pt x="6877" y="13247"/>
                  <a:pt x="6871" y="13246"/>
                </a:cubicBezTo>
                <a:cubicBezTo>
                  <a:pt x="6854" y="13238"/>
                  <a:pt x="6838" y="13229"/>
                  <a:pt x="6821" y="13221"/>
                </a:cubicBezTo>
                <a:cubicBezTo>
                  <a:pt x="6662" y="13146"/>
                  <a:pt x="6521" y="13073"/>
                  <a:pt x="6375" y="12973"/>
                </a:cubicBezTo>
                <a:cubicBezTo>
                  <a:pt x="6327" y="12940"/>
                  <a:pt x="6168" y="12898"/>
                  <a:pt x="6226" y="12898"/>
                </a:cubicBezTo>
                <a:cubicBezTo>
                  <a:pt x="6317" y="12898"/>
                  <a:pt x="6473" y="12978"/>
                  <a:pt x="6548" y="13022"/>
                </a:cubicBezTo>
                <a:cubicBezTo>
                  <a:pt x="6633" y="13072"/>
                  <a:pt x="6705" y="13123"/>
                  <a:pt x="6796" y="13146"/>
                </a:cubicBezTo>
                <a:cubicBezTo>
                  <a:pt x="6693" y="13112"/>
                  <a:pt x="6599" y="13026"/>
                  <a:pt x="6499" y="12973"/>
                </a:cubicBezTo>
                <a:cubicBezTo>
                  <a:pt x="6413" y="12927"/>
                  <a:pt x="6314" y="12856"/>
                  <a:pt x="6226" y="12824"/>
                </a:cubicBezTo>
                <a:cubicBezTo>
                  <a:pt x="6135" y="12791"/>
                  <a:pt x="6236" y="12832"/>
                  <a:pt x="6276" y="12849"/>
                </a:cubicBezTo>
                <a:cubicBezTo>
                  <a:pt x="6414" y="12908"/>
                  <a:pt x="6558" y="12932"/>
                  <a:pt x="6697" y="12973"/>
                </a:cubicBezTo>
                <a:cubicBezTo>
                  <a:pt x="6714" y="12981"/>
                  <a:pt x="6730" y="12990"/>
                  <a:pt x="6747" y="12998"/>
                </a:cubicBezTo>
                <a:cubicBezTo>
                  <a:pt x="6598" y="12923"/>
                  <a:pt x="6464" y="12883"/>
                  <a:pt x="6300" y="12849"/>
                </a:cubicBezTo>
                <a:cubicBezTo>
                  <a:pt x="6206" y="12830"/>
                  <a:pt x="6137" y="12812"/>
                  <a:pt x="6052" y="12774"/>
                </a:cubicBezTo>
                <a:cubicBezTo>
                  <a:pt x="5932" y="12774"/>
                  <a:pt x="6152" y="12816"/>
                  <a:pt x="6176" y="12824"/>
                </a:cubicBezTo>
                <a:cubicBezTo>
                  <a:pt x="6375" y="12892"/>
                  <a:pt x="6557" y="12958"/>
                  <a:pt x="6747" y="13047"/>
                </a:cubicBezTo>
                <a:cubicBezTo>
                  <a:pt x="6856" y="13098"/>
                  <a:pt x="6817" y="13089"/>
                  <a:pt x="6722" y="13022"/>
                </a:cubicBezTo>
                <a:cubicBezTo>
                  <a:pt x="6548" y="12944"/>
                  <a:pt x="6376" y="12875"/>
                  <a:pt x="6201" y="12799"/>
                </a:cubicBezTo>
                <a:cubicBezTo>
                  <a:pt x="6131" y="12768"/>
                  <a:pt x="5987" y="12709"/>
                  <a:pt x="6052" y="12750"/>
                </a:cubicBezTo>
                <a:cubicBezTo>
                  <a:pt x="6245" y="12872"/>
                  <a:pt x="6460" y="12970"/>
                  <a:pt x="6648" y="13097"/>
                </a:cubicBezTo>
                <a:cubicBezTo>
                  <a:pt x="6687" y="13136"/>
                  <a:pt x="6718" y="13152"/>
                  <a:pt x="6672" y="13146"/>
                </a:cubicBezTo>
                <a:cubicBezTo>
                  <a:pt x="6486" y="13095"/>
                  <a:pt x="6329" y="12955"/>
                  <a:pt x="6152" y="12874"/>
                </a:cubicBezTo>
                <a:cubicBezTo>
                  <a:pt x="6098" y="12850"/>
                  <a:pt x="5973" y="12829"/>
                  <a:pt x="6028" y="12849"/>
                </a:cubicBezTo>
                <a:cubicBezTo>
                  <a:pt x="6226" y="12921"/>
                  <a:pt x="6482" y="12989"/>
                  <a:pt x="6648" y="13122"/>
                </a:cubicBezTo>
                <a:cubicBezTo>
                  <a:pt x="6706" y="13168"/>
                  <a:pt x="6651" y="13171"/>
                  <a:pt x="6722" y="13171"/>
                </a:cubicBezTo>
              </a:path>
              <a:path w="2233" h="1713">
                <a:moveTo>
                  <a:pt x="5904" y="12725"/>
                </a:moveTo>
                <a:lnTo>
                  <a:pt x="5904" y="12725"/>
                </a:lnTo>
                <a:lnTo>
                  <a:pt x="5904" y="12725"/>
                </a:lnTo>
                <a:lnTo>
                  <a:pt x="5928" y="12725"/>
                </a:lnTo>
                <a:lnTo>
                  <a:pt x="6003" y="12750"/>
                </a:lnTo>
                <a:lnTo>
                  <a:pt x="6052" y="12774"/>
                </a:lnTo>
                <a:lnTo>
                  <a:pt x="6127" y="12799"/>
                </a:lnTo>
                <a:lnTo>
                  <a:pt x="6176" y="12824"/>
                </a:lnTo>
                <a:lnTo>
                  <a:pt x="6226" y="12824"/>
                </a:lnTo>
                <a:lnTo>
                  <a:pt x="6276" y="12849"/>
                </a:lnTo>
                <a:lnTo>
                  <a:pt x="6325" y="12849"/>
                </a:lnTo>
                <a:lnTo>
                  <a:pt x="6350" y="12874"/>
                </a:lnTo>
                <a:lnTo>
                  <a:pt x="6400" y="12874"/>
                </a:lnTo>
                <a:lnTo>
                  <a:pt x="6449" y="12898"/>
                </a:lnTo>
                <a:lnTo>
                  <a:pt x="6474" y="12898"/>
                </a:lnTo>
                <a:lnTo>
                  <a:pt x="6524" y="12923"/>
                </a:lnTo>
                <a:lnTo>
                  <a:pt x="6548" y="12948"/>
                </a:lnTo>
                <a:lnTo>
                  <a:pt x="6598" y="12948"/>
                </a:lnTo>
                <a:lnTo>
                  <a:pt x="6648" y="12973"/>
                </a:lnTo>
                <a:lnTo>
                  <a:pt x="6722" y="12973"/>
                </a:lnTo>
                <a:lnTo>
                  <a:pt x="6796" y="12998"/>
                </a:lnTo>
                <a:lnTo>
                  <a:pt x="6846" y="12998"/>
                </a:lnTo>
                <a:lnTo>
                  <a:pt x="6896" y="13022"/>
                </a:lnTo>
                <a:lnTo>
                  <a:pt x="6921" y="13022"/>
                </a:lnTo>
                <a:lnTo>
                  <a:pt x="6945" y="13047"/>
                </a:lnTo>
                <a:lnTo>
                  <a:pt x="6970" y="13047"/>
                </a:lnTo>
                <a:lnTo>
                  <a:pt x="6995" y="13047"/>
                </a:lnTo>
                <a:lnTo>
                  <a:pt x="7020" y="13072"/>
                </a:lnTo>
                <a:lnTo>
                  <a:pt x="7045" y="13097"/>
                </a:lnTo>
                <a:lnTo>
                  <a:pt x="7045" y="13097"/>
                </a:lnTo>
                <a:lnTo>
                  <a:pt x="7069" y="13097"/>
                </a:lnTo>
                <a:lnTo>
                  <a:pt x="7069" y="13097"/>
                </a:lnTo>
                <a:lnTo>
                  <a:pt x="7045" y="13097"/>
                </a:lnTo>
                <a:lnTo>
                  <a:pt x="6970" y="13097"/>
                </a:lnTo>
                <a:lnTo>
                  <a:pt x="6871" y="13072"/>
                </a:lnTo>
                <a:lnTo>
                  <a:pt x="6772" y="13047"/>
                </a:lnTo>
                <a:lnTo>
                  <a:pt x="6648" y="13022"/>
                </a:lnTo>
                <a:lnTo>
                  <a:pt x="6548" y="12998"/>
                </a:lnTo>
                <a:lnTo>
                  <a:pt x="6449" y="12973"/>
                </a:lnTo>
                <a:lnTo>
                  <a:pt x="6350" y="12948"/>
                </a:lnTo>
                <a:lnTo>
                  <a:pt x="6300" y="12948"/>
                </a:lnTo>
                <a:lnTo>
                  <a:pt x="6276" y="12923"/>
                </a:lnTo>
                <a:lnTo>
                  <a:pt x="6251" y="12898"/>
                </a:lnTo>
                <a:lnTo>
                  <a:pt x="6226" y="12898"/>
                </a:lnTo>
                <a:lnTo>
                  <a:pt x="6226" y="12898"/>
                </a:lnTo>
                <a:lnTo>
                  <a:pt x="6226" y="12874"/>
                </a:lnTo>
                <a:lnTo>
                  <a:pt x="6201" y="12874"/>
                </a:lnTo>
                <a:lnTo>
                  <a:pt x="6226" y="12874"/>
                </a:lnTo>
                <a:lnTo>
                  <a:pt x="6276" y="12898"/>
                </a:lnTo>
                <a:lnTo>
                  <a:pt x="6350" y="12973"/>
                </a:lnTo>
                <a:lnTo>
                  <a:pt x="6449" y="13022"/>
                </a:lnTo>
                <a:lnTo>
                  <a:pt x="6548" y="13072"/>
                </a:lnTo>
                <a:lnTo>
                  <a:pt x="6648" y="13122"/>
                </a:lnTo>
                <a:lnTo>
                  <a:pt x="6722" y="13146"/>
                </a:lnTo>
                <a:lnTo>
                  <a:pt x="6772" y="13196"/>
                </a:lnTo>
                <a:lnTo>
                  <a:pt x="6846" y="13196"/>
                </a:lnTo>
                <a:lnTo>
                  <a:pt x="6846" y="13221"/>
                </a:lnTo>
                <a:lnTo>
                  <a:pt x="6871" y="13221"/>
                </a:lnTo>
                <a:lnTo>
                  <a:pt x="6896" y="13221"/>
                </a:lnTo>
                <a:lnTo>
                  <a:pt x="6896" y="13221"/>
                </a:lnTo>
                <a:lnTo>
                  <a:pt x="6896" y="13246"/>
                </a:lnTo>
                <a:lnTo>
                  <a:pt x="6921" y="13246"/>
                </a:lnTo>
                <a:lnTo>
                  <a:pt x="6921" y="13246"/>
                </a:lnTo>
                <a:lnTo>
                  <a:pt x="6921" y="13246"/>
                </a:lnTo>
                <a:lnTo>
                  <a:pt x="6896" y="13246"/>
                </a:lnTo>
                <a:lnTo>
                  <a:pt x="6921" y="13246"/>
                </a:lnTo>
                <a:lnTo>
                  <a:pt x="6921" y="13246"/>
                </a:lnTo>
                <a:lnTo>
                  <a:pt x="6921" y="13246"/>
                </a:lnTo>
                <a:lnTo>
                  <a:pt x="6896" y="13246"/>
                </a:lnTo>
                <a:lnTo>
                  <a:pt x="6896" y="13246"/>
                </a:lnTo>
              </a:path>
              <a:path w="2233" h="1713">
                <a:moveTo>
                  <a:pt x="5432" y="12477"/>
                </a:moveTo>
                <a:cubicBezTo>
                  <a:pt x="5276" y="12676"/>
                  <a:pt x="5123" y="12876"/>
                  <a:pt x="4961" y="13072"/>
                </a:cubicBezTo>
                <a:cubicBezTo>
                  <a:pt x="4883" y="13169"/>
                  <a:pt x="4866" y="13180"/>
                  <a:pt x="4837" y="13246"/>
                </a:cubicBezTo>
              </a:path>
              <a:path w="2233" h="1713">
                <a:moveTo>
                  <a:pt x="5432" y="11534"/>
                </a:moveTo>
                <a:cubicBezTo>
                  <a:pt x="5432" y="11716"/>
                  <a:pt x="5432" y="11898"/>
                  <a:pt x="5432" y="120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13040" y="4660920"/>
            <a:ext cx="465120" cy="1438200"/>
          </a:xfrm>
          <a:custGeom>
            <a:avLst/>
            <a:gdLst/>
            <a:ahLst/>
            <a:rect l="l" t="t" r="r" b="b"/>
            <a:pathLst>
              <a:path w="1291" h="3995">
                <a:moveTo>
                  <a:pt x="8434" y="12973"/>
                </a:moveTo>
                <a:cubicBezTo>
                  <a:pt x="8357" y="13164"/>
                  <a:pt x="8273" y="13296"/>
                  <a:pt x="8161" y="13469"/>
                </a:cubicBezTo>
                <a:cubicBezTo>
                  <a:pt x="8046" y="13648"/>
                  <a:pt x="7883" y="13832"/>
                  <a:pt x="7813" y="14039"/>
                </a:cubicBezTo>
                <a:cubicBezTo>
                  <a:pt x="7813" y="14047"/>
                  <a:pt x="7813" y="14056"/>
                  <a:pt x="7813" y="14064"/>
                </a:cubicBezTo>
              </a:path>
              <a:path w="1291" h="3995">
                <a:moveTo>
                  <a:pt x="8954" y="13841"/>
                </a:moveTo>
                <a:cubicBezTo>
                  <a:pt x="8999" y="13885"/>
                  <a:pt x="8995" y="14096"/>
                  <a:pt x="9004" y="14188"/>
                </a:cubicBezTo>
                <a:cubicBezTo>
                  <a:pt x="9004" y="14230"/>
                  <a:pt x="9004" y="14238"/>
                  <a:pt x="9004" y="14263"/>
                </a:cubicBezTo>
              </a:path>
              <a:path w="1291" h="3995">
                <a:moveTo>
                  <a:pt x="8582" y="15081"/>
                </a:moveTo>
                <a:cubicBezTo>
                  <a:pt x="8596" y="15144"/>
                  <a:pt x="8618" y="15192"/>
                  <a:pt x="8632" y="15255"/>
                </a:cubicBezTo>
                <a:cubicBezTo>
                  <a:pt x="8632" y="15178"/>
                  <a:pt x="8542" y="14941"/>
                  <a:pt x="8458" y="15007"/>
                </a:cubicBezTo>
                <a:cubicBezTo>
                  <a:pt x="8321" y="15114"/>
                  <a:pt x="8068" y="15815"/>
                  <a:pt x="8409" y="15825"/>
                </a:cubicBezTo>
                <a:cubicBezTo>
                  <a:pt x="8579" y="15830"/>
                  <a:pt x="8728" y="15662"/>
                  <a:pt x="8855" y="15577"/>
                </a:cubicBezTo>
              </a:path>
              <a:path w="1291" h="3995">
                <a:moveTo>
                  <a:pt x="8161" y="16073"/>
                </a:moveTo>
                <a:cubicBezTo>
                  <a:pt x="8335" y="16049"/>
                  <a:pt x="8510" y="16013"/>
                  <a:pt x="8682" y="15974"/>
                </a:cubicBezTo>
                <a:cubicBezTo>
                  <a:pt x="8798" y="15947"/>
                  <a:pt x="8993" y="15857"/>
                  <a:pt x="9103" y="15925"/>
                </a:cubicBezTo>
              </a:path>
              <a:path w="1291" h="3995">
                <a:moveTo>
                  <a:pt x="8607" y="16396"/>
                </a:moveTo>
                <a:cubicBezTo>
                  <a:pt x="8582" y="16547"/>
                  <a:pt x="8562" y="16686"/>
                  <a:pt x="8558" y="16842"/>
                </a:cubicBezTo>
                <a:cubicBezTo>
                  <a:pt x="8557" y="16875"/>
                  <a:pt x="8558" y="16909"/>
                  <a:pt x="8558" y="169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6197760"/>
            <a:ext cx="1162080" cy="366480"/>
          </a:xfrm>
          <a:custGeom>
            <a:avLst/>
            <a:gdLst/>
            <a:ahLst/>
            <a:rect l="l" t="t" r="r" b="b"/>
            <a:pathLst>
              <a:path w="3226" h="1018">
                <a:moveTo>
                  <a:pt x="9351" y="17636"/>
                </a:moveTo>
                <a:cubicBezTo>
                  <a:pt x="9392" y="17646"/>
                  <a:pt x="9391" y="17645"/>
                  <a:pt x="9401" y="17686"/>
                </a:cubicBezTo>
                <a:cubicBezTo>
                  <a:pt x="9401" y="17611"/>
                  <a:pt x="9389" y="17535"/>
                  <a:pt x="9302" y="17512"/>
                </a:cubicBezTo>
                <a:cubicBezTo>
                  <a:pt x="9098" y="17459"/>
                  <a:pt x="9071" y="17974"/>
                  <a:pt x="9103" y="18083"/>
                </a:cubicBezTo>
                <a:cubicBezTo>
                  <a:pt x="9194" y="18391"/>
                  <a:pt x="9564" y="18164"/>
                  <a:pt x="9699" y="18058"/>
                </a:cubicBezTo>
                <a:cubicBezTo>
                  <a:pt x="9754" y="18002"/>
                  <a:pt x="9779" y="18004"/>
                  <a:pt x="9773" y="17959"/>
                </a:cubicBezTo>
              </a:path>
              <a:path w="3226" h="1018">
                <a:moveTo>
                  <a:pt x="10120" y="17611"/>
                </a:moveTo>
                <a:cubicBezTo>
                  <a:pt x="10225" y="17591"/>
                  <a:pt x="10334" y="17556"/>
                  <a:pt x="10443" y="17537"/>
                </a:cubicBezTo>
                <a:cubicBezTo>
                  <a:pt x="10471" y="17537"/>
                  <a:pt x="10482" y="17539"/>
                  <a:pt x="10492" y="17562"/>
                </a:cubicBezTo>
              </a:path>
              <a:path w="3226" h="1018">
                <a:moveTo>
                  <a:pt x="10244" y="17785"/>
                </a:moveTo>
                <a:cubicBezTo>
                  <a:pt x="10368" y="17762"/>
                  <a:pt x="10500" y="17749"/>
                  <a:pt x="10616" y="17711"/>
                </a:cubicBezTo>
              </a:path>
              <a:path w="3226" h="1018">
                <a:moveTo>
                  <a:pt x="11063" y="17363"/>
                </a:moveTo>
                <a:cubicBezTo>
                  <a:pt x="11213" y="17326"/>
                  <a:pt x="11305" y="17297"/>
                  <a:pt x="11460" y="17314"/>
                </a:cubicBezTo>
                <a:cubicBezTo>
                  <a:pt x="11477" y="17499"/>
                  <a:pt x="11356" y="17551"/>
                  <a:pt x="11212" y="17661"/>
                </a:cubicBezTo>
                <a:cubicBezTo>
                  <a:pt x="11132" y="17634"/>
                  <a:pt x="11303" y="17594"/>
                  <a:pt x="11385" y="17611"/>
                </a:cubicBezTo>
                <a:cubicBezTo>
                  <a:pt x="11620" y="17661"/>
                  <a:pt x="11580" y="17888"/>
                  <a:pt x="11410" y="18008"/>
                </a:cubicBezTo>
                <a:cubicBezTo>
                  <a:pt x="11292" y="18091"/>
                  <a:pt x="11065" y="18104"/>
                  <a:pt x="11013" y="17983"/>
                </a:cubicBezTo>
              </a:path>
              <a:path w="3226" h="1018">
                <a:moveTo>
                  <a:pt x="11733" y="17239"/>
                </a:moveTo>
                <a:cubicBezTo>
                  <a:pt x="11791" y="17219"/>
                  <a:pt x="11757" y="17462"/>
                  <a:pt x="11757" y="17537"/>
                </a:cubicBezTo>
                <a:cubicBezTo>
                  <a:pt x="11757" y="17644"/>
                  <a:pt x="11740" y="17918"/>
                  <a:pt x="11931" y="17909"/>
                </a:cubicBezTo>
                <a:cubicBezTo>
                  <a:pt x="12091" y="17902"/>
                  <a:pt x="12282" y="17761"/>
                  <a:pt x="12328" y="17611"/>
                </a:cubicBezTo>
                <a:cubicBezTo>
                  <a:pt x="12328" y="17595"/>
                  <a:pt x="12328" y="17578"/>
                  <a:pt x="12328" y="17562"/>
                </a:cubicBezTo>
                <a:cubicBezTo>
                  <a:pt x="12213" y="17539"/>
                  <a:pt x="12196" y="17574"/>
                  <a:pt x="12105" y="17661"/>
                </a:cubicBezTo>
                <a:cubicBezTo>
                  <a:pt x="12031" y="17732"/>
                  <a:pt x="12037" y="17770"/>
                  <a:pt x="12055" y="178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3040" y="4214880"/>
            <a:ext cx="2857680" cy="876240"/>
          </a:xfrm>
          <a:custGeom>
            <a:avLst/>
            <a:gdLst/>
            <a:ahLst/>
            <a:rect l="l" t="t" r="r" b="b"/>
            <a:pathLst>
              <a:path w="7938" h="2432">
                <a:moveTo>
                  <a:pt x="8037" y="12129"/>
                </a:moveTo>
                <a:cubicBezTo>
                  <a:pt x="8037" y="12232"/>
                  <a:pt x="8030" y="12030"/>
                  <a:pt x="7987" y="11981"/>
                </a:cubicBezTo>
                <a:cubicBezTo>
                  <a:pt x="7962" y="11964"/>
                  <a:pt x="7938" y="11948"/>
                  <a:pt x="7913" y="11931"/>
                </a:cubicBezTo>
                <a:cubicBezTo>
                  <a:pt x="7723" y="12042"/>
                  <a:pt x="7599" y="12319"/>
                  <a:pt x="7665" y="12551"/>
                </a:cubicBezTo>
                <a:cubicBezTo>
                  <a:pt x="7742" y="12820"/>
                  <a:pt x="8159" y="12607"/>
                  <a:pt x="8285" y="12526"/>
                </a:cubicBezTo>
                <a:cubicBezTo>
                  <a:pt x="8301" y="12510"/>
                  <a:pt x="8318" y="12493"/>
                  <a:pt x="8334" y="12477"/>
                </a:cubicBezTo>
              </a:path>
              <a:path w="7938" h="2432">
                <a:moveTo>
                  <a:pt x="7045" y="12998"/>
                </a:moveTo>
                <a:cubicBezTo>
                  <a:pt x="7202" y="12989"/>
                  <a:pt x="7358" y="12983"/>
                  <a:pt x="7516" y="12973"/>
                </a:cubicBezTo>
                <a:cubicBezTo>
                  <a:pt x="8012" y="12942"/>
                  <a:pt x="8508" y="12974"/>
                  <a:pt x="9004" y="12948"/>
                </a:cubicBezTo>
                <a:cubicBezTo>
                  <a:pt x="9152" y="12940"/>
                  <a:pt x="9194" y="12940"/>
                  <a:pt x="9252" y="12948"/>
                </a:cubicBezTo>
              </a:path>
              <a:path w="7938" h="2432">
                <a:moveTo>
                  <a:pt x="7689" y="13395"/>
                </a:moveTo>
                <a:cubicBezTo>
                  <a:pt x="7689" y="13294"/>
                  <a:pt x="7704" y="13542"/>
                  <a:pt x="7714" y="13643"/>
                </a:cubicBezTo>
                <a:cubicBezTo>
                  <a:pt x="7735" y="13791"/>
                  <a:pt x="7744" y="13823"/>
                  <a:pt x="7739" y="13915"/>
                </a:cubicBezTo>
              </a:path>
              <a:path w="7938" h="2432">
                <a:moveTo>
                  <a:pt x="8012" y="13295"/>
                </a:moveTo>
                <a:cubicBezTo>
                  <a:pt x="8131" y="13256"/>
                  <a:pt x="8172" y="13178"/>
                  <a:pt x="8310" y="13221"/>
                </a:cubicBezTo>
                <a:cubicBezTo>
                  <a:pt x="8526" y="13288"/>
                  <a:pt x="8424" y="13518"/>
                  <a:pt x="8334" y="13643"/>
                </a:cubicBezTo>
                <a:cubicBezTo>
                  <a:pt x="8246" y="13753"/>
                  <a:pt x="8226" y="13782"/>
                  <a:pt x="8161" y="13841"/>
                </a:cubicBezTo>
                <a:cubicBezTo>
                  <a:pt x="8274" y="13770"/>
                  <a:pt x="8292" y="13739"/>
                  <a:pt x="8434" y="13767"/>
                </a:cubicBezTo>
                <a:cubicBezTo>
                  <a:pt x="8513" y="13782"/>
                  <a:pt x="8565" y="13824"/>
                  <a:pt x="8632" y="13841"/>
                </a:cubicBezTo>
              </a:path>
              <a:path w="7938" h="2432">
                <a:moveTo>
                  <a:pt x="6251" y="12824"/>
                </a:moveTo>
                <a:cubicBezTo>
                  <a:pt x="6251" y="12740"/>
                  <a:pt x="6309" y="12925"/>
                  <a:pt x="6350" y="12998"/>
                </a:cubicBezTo>
                <a:cubicBezTo>
                  <a:pt x="6409" y="13103"/>
                  <a:pt x="6433" y="13133"/>
                  <a:pt x="6449" y="13246"/>
                </a:cubicBezTo>
              </a:path>
              <a:path w="7938" h="2432">
                <a:moveTo>
                  <a:pt x="6499" y="12725"/>
                </a:moveTo>
                <a:cubicBezTo>
                  <a:pt x="6400" y="12824"/>
                  <a:pt x="6313" y="12985"/>
                  <a:pt x="6251" y="13122"/>
                </a:cubicBezTo>
                <a:cubicBezTo>
                  <a:pt x="6251" y="13146"/>
                  <a:pt x="6251" y="13154"/>
                  <a:pt x="6226" y="13146"/>
                </a:cubicBezTo>
              </a:path>
              <a:path w="7938" h="2432">
                <a:moveTo>
                  <a:pt x="4812" y="12526"/>
                </a:moveTo>
                <a:cubicBezTo>
                  <a:pt x="4831" y="12695"/>
                  <a:pt x="4878" y="12852"/>
                  <a:pt x="4887" y="13022"/>
                </a:cubicBezTo>
                <a:cubicBezTo>
                  <a:pt x="4887" y="13080"/>
                  <a:pt x="4870" y="13105"/>
                  <a:pt x="4911" y="13097"/>
                </a:cubicBezTo>
              </a:path>
              <a:path w="7938" h="2432">
                <a:moveTo>
                  <a:pt x="5184" y="12526"/>
                </a:moveTo>
                <a:cubicBezTo>
                  <a:pt x="5275" y="12504"/>
                  <a:pt x="5330" y="12391"/>
                  <a:pt x="5432" y="12502"/>
                </a:cubicBezTo>
                <a:cubicBezTo>
                  <a:pt x="5586" y="12670"/>
                  <a:pt x="5467" y="12927"/>
                  <a:pt x="5259" y="12973"/>
                </a:cubicBezTo>
                <a:cubicBezTo>
                  <a:pt x="5226" y="12965"/>
                  <a:pt x="5192" y="12956"/>
                  <a:pt x="5159" y="12948"/>
                </a:cubicBezTo>
                <a:cubicBezTo>
                  <a:pt x="5184" y="12849"/>
                  <a:pt x="5343" y="12829"/>
                  <a:pt x="5432" y="12849"/>
                </a:cubicBezTo>
                <a:cubicBezTo>
                  <a:pt x="5488" y="12862"/>
                  <a:pt x="5545" y="12940"/>
                  <a:pt x="5556" y="12973"/>
                </a:cubicBezTo>
              </a:path>
              <a:path w="7938" h="2432">
                <a:moveTo>
                  <a:pt x="4837" y="13395"/>
                </a:moveTo>
                <a:cubicBezTo>
                  <a:pt x="4829" y="13387"/>
                  <a:pt x="4820" y="13378"/>
                  <a:pt x="4812" y="13370"/>
                </a:cubicBezTo>
                <a:cubicBezTo>
                  <a:pt x="4889" y="13370"/>
                  <a:pt x="4940" y="13363"/>
                  <a:pt x="5011" y="13345"/>
                </a:cubicBezTo>
                <a:cubicBezTo>
                  <a:pt x="5100" y="13322"/>
                  <a:pt x="5216" y="13334"/>
                  <a:pt x="5308" y="13320"/>
                </a:cubicBezTo>
                <a:cubicBezTo>
                  <a:pt x="5368" y="13311"/>
                  <a:pt x="5423" y="13300"/>
                  <a:pt x="5482" y="13295"/>
                </a:cubicBezTo>
                <a:cubicBezTo>
                  <a:pt x="5546" y="13290"/>
                  <a:pt x="5565" y="13282"/>
                  <a:pt x="5631" y="13295"/>
                </a:cubicBezTo>
              </a:path>
              <a:path w="7938" h="2432">
                <a:moveTo>
                  <a:pt x="5234" y="13543"/>
                </a:moveTo>
                <a:cubicBezTo>
                  <a:pt x="5234" y="13687"/>
                  <a:pt x="5247" y="13824"/>
                  <a:pt x="5259" y="13965"/>
                </a:cubicBezTo>
                <a:cubicBezTo>
                  <a:pt x="5264" y="14021"/>
                  <a:pt x="5259" y="14082"/>
                  <a:pt x="5259" y="14139"/>
                </a:cubicBezTo>
              </a:path>
              <a:path w="7938" h="2432">
                <a:moveTo>
                  <a:pt x="1538" y="12005"/>
                </a:moveTo>
                <a:cubicBezTo>
                  <a:pt x="1538" y="12146"/>
                  <a:pt x="1586" y="12264"/>
                  <a:pt x="1612" y="12402"/>
                </a:cubicBezTo>
                <a:cubicBezTo>
                  <a:pt x="1612" y="12427"/>
                  <a:pt x="1612" y="12435"/>
                  <a:pt x="1612" y="12452"/>
                </a:cubicBezTo>
              </a:path>
              <a:path w="7938" h="2432">
                <a:moveTo>
                  <a:pt x="1860" y="12055"/>
                </a:moveTo>
                <a:cubicBezTo>
                  <a:pt x="1946" y="11998"/>
                  <a:pt x="2099" y="11958"/>
                  <a:pt x="2183" y="12055"/>
                </a:cubicBezTo>
                <a:cubicBezTo>
                  <a:pt x="2309" y="12200"/>
                  <a:pt x="2180" y="12408"/>
                  <a:pt x="2009" y="12427"/>
                </a:cubicBezTo>
                <a:cubicBezTo>
                  <a:pt x="1976" y="12419"/>
                  <a:pt x="1943" y="12410"/>
                  <a:pt x="1910" y="12402"/>
                </a:cubicBezTo>
                <a:cubicBezTo>
                  <a:pt x="1931" y="12281"/>
                  <a:pt x="1996" y="12221"/>
                  <a:pt x="2133" y="12254"/>
                </a:cubicBezTo>
                <a:cubicBezTo>
                  <a:pt x="2215" y="12274"/>
                  <a:pt x="2238" y="12352"/>
                  <a:pt x="2307" y="12378"/>
                </a:cubicBezTo>
              </a:path>
              <a:path w="7938" h="2432">
                <a:moveTo>
                  <a:pt x="2704" y="12179"/>
                </a:moveTo>
                <a:cubicBezTo>
                  <a:pt x="2606" y="12105"/>
                  <a:pt x="2581" y="12257"/>
                  <a:pt x="2555" y="12328"/>
                </a:cubicBezTo>
                <a:cubicBezTo>
                  <a:pt x="2490" y="12503"/>
                  <a:pt x="2644" y="12469"/>
                  <a:pt x="2778" y="12452"/>
                </a:cubicBezTo>
                <a:cubicBezTo>
                  <a:pt x="2856" y="12442"/>
                  <a:pt x="2886" y="12427"/>
                  <a:pt x="2952" y="12427"/>
                </a:cubicBezTo>
              </a:path>
              <a:path w="7938" h="2432">
                <a:moveTo>
                  <a:pt x="1315" y="12700"/>
                </a:moveTo>
                <a:cubicBezTo>
                  <a:pt x="1702" y="12700"/>
                  <a:pt x="2096" y="12667"/>
                  <a:pt x="2480" y="12675"/>
                </a:cubicBezTo>
                <a:cubicBezTo>
                  <a:pt x="2703" y="12680"/>
                  <a:pt x="2925" y="12700"/>
                  <a:pt x="3150" y="12700"/>
                </a:cubicBezTo>
                <a:cubicBezTo>
                  <a:pt x="3158" y="12700"/>
                  <a:pt x="3167" y="12700"/>
                  <a:pt x="3175" y="12700"/>
                </a:cubicBezTo>
              </a:path>
              <a:path w="7938" h="2432">
                <a:moveTo>
                  <a:pt x="1761" y="13022"/>
                </a:moveTo>
                <a:cubicBezTo>
                  <a:pt x="1761" y="13014"/>
                  <a:pt x="1761" y="13006"/>
                  <a:pt x="1761" y="12998"/>
                </a:cubicBezTo>
                <a:cubicBezTo>
                  <a:pt x="1704" y="13016"/>
                  <a:pt x="1736" y="13219"/>
                  <a:pt x="1736" y="13271"/>
                </a:cubicBezTo>
                <a:cubicBezTo>
                  <a:pt x="1736" y="13349"/>
                  <a:pt x="1721" y="13397"/>
                  <a:pt x="1761" y="13345"/>
                </a:cubicBezTo>
              </a:path>
              <a:path w="7938" h="2432">
                <a:moveTo>
                  <a:pt x="2084" y="12998"/>
                </a:moveTo>
                <a:cubicBezTo>
                  <a:pt x="2125" y="12970"/>
                  <a:pt x="2176" y="12927"/>
                  <a:pt x="2208" y="12923"/>
                </a:cubicBezTo>
                <a:cubicBezTo>
                  <a:pt x="2303" y="12911"/>
                  <a:pt x="2287" y="12988"/>
                  <a:pt x="2257" y="13047"/>
                </a:cubicBezTo>
                <a:cubicBezTo>
                  <a:pt x="2212" y="13135"/>
                  <a:pt x="2131" y="13186"/>
                  <a:pt x="2084" y="13271"/>
                </a:cubicBezTo>
                <a:cubicBezTo>
                  <a:pt x="2053" y="13326"/>
                  <a:pt x="2021" y="13384"/>
                  <a:pt x="2009" y="13444"/>
                </a:cubicBezTo>
                <a:cubicBezTo>
                  <a:pt x="2057" y="13397"/>
                  <a:pt x="2091" y="13323"/>
                  <a:pt x="2158" y="13370"/>
                </a:cubicBezTo>
                <a:cubicBezTo>
                  <a:pt x="2233" y="13422"/>
                  <a:pt x="2287" y="13453"/>
                  <a:pt x="2381" y="13419"/>
                </a:cubicBezTo>
                <a:cubicBezTo>
                  <a:pt x="2422" y="13399"/>
                  <a:pt x="2439" y="13402"/>
                  <a:pt x="2431" y="13370"/>
                </a:cubicBezTo>
              </a:path>
              <a:path w="7938" h="2432">
                <a:moveTo>
                  <a:pt x="2034" y="12005"/>
                </a:moveTo>
                <a:cubicBezTo>
                  <a:pt x="2034" y="11939"/>
                  <a:pt x="2034" y="11873"/>
                  <a:pt x="2034" y="11807"/>
                </a:cubicBezTo>
                <a:cubicBezTo>
                  <a:pt x="2034" y="11920"/>
                  <a:pt x="2037" y="12018"/>
                  <a:pt x="2059" y="12129"/>
                </a:cubicBezTo>
                <a:cubicBezTo>
                  <a:pt x="2095" y="12307"/>
                  <a:pt x="2105" y="12493"/>
                  <a:pt x="2108" y="12675"/>
                </a:cubicBezTo>
                <a:cubicBezTo>
                  <a:pt x="2112" y="12924"/>
                  <a:pt x="2095" y="13179"/>
                  <a:pt x="2133" y="13419"/>
                </a:cubicBezTo>
                <a:cubicBezTo>
                  <a:pt x="2139" y="13459"/>
                  <a:pt x="2164" y="13530"/>
                  <a:pt x="2133" y="13444"/>
                </a:cubicBezTo>
                <a:cubicBezTo>
                  <a:pt x="2125" y="13428"/>
                  <a:pt x="2116" y="13411"/>
                  <a:pt x="2108" y="13395"/>
                </a:cubicBezTo>
                <a:cubicBezTo>
                  <a:pt x="2108" y="13120"/>
                  <a:pt x="2089" y="12850"/>
                  <a:pt x="2084" y="12576"/>
                </a:cubicBezTo>
                <a:cubicBezTo>
                  <a:pt x="2081" y="12423"/>
                  <a:pt x="2096" y="12254"/>
                  <a:pt x="2059" y="12105"/>
                </a:cubicBezTo>
                <a:cubicBezTo>
                  <a:pt x="2044" y="12046"/>
                  <a:pt x="2014" y="11958"/>
                  <a:pt x="2009" y="11906"/>
                </a:cubicBezTo>
                <a:cubicBezTo>
                  <a:pt x="2004" y="11857"/>
                  <a:pt x="2012" y="11806"/>
                  <a:pt x="2009" y="11757"/>
                </a:cubicBezTo>
                <a:cubicBezTo>
                  <a:pt x="2009" y="11703"/>
                  <a:pt x="2004" y="11704"/>
                  <a:pt x="2009" y="11757"/>
                </a:cubicBezTo>
                <a:cubicBezTo>
                  <a:pt x="2040" y="12120"/>
                  <a:pt x="2069" y="12511"/>
                  <a:pt x="2059" y="12874"/>
                </a:cubicBezTo>
                <a:cubicBezTo>
                  <a:pt x="2055" y="13015"/>
                  <a:pt x="2034" y="13152"/>
                  <a:pt x="2034" y="13295"/>
                </a:cubicBezTo>
                <a:cubicBezTo>
                  <a:pt x="2034" y="13328"/>
                  <a:pt x="2034" y="13362"/>
                  <a:pt x="2034" y="13395"/>
                </a:cubicBezTo>
              </a:path>
              <a:path w="7938" h="2432">
                <a:moveTo>
                  <a:pt x="3373" y="12576"/>
                </a:moveTo>
                <a:cubicBezTo>
                  <a:pt x="3373" y="12546"/>
                  <a:pt x="3424" y="12576"/>
                  <a:pt x="3473" y="12576"/>
                </a:cubicBezTo>
              </a:path>
              <a:path w="7938" h="2432">
                <a:moveTo>
                  <a:pt x="3373" y="12725"/>
                </a:moveTo>
                <a:cubicBezTo>
                  <a:pt x="3472" y="12725"/>
                  <a:pt x="3572" y="12725"/>
                  <a:pt x="3671" y="12725"/>
                </a:cubicBezTo>
              </a:path>
              <a:path w="7938" h="2432">
                <a:moveTo>
                  <a:pt x="4068" y="12477"/>
                </a:moveTo>
                <a:cubicBezTo>
                  <a:pt x="4101" y="12477"/>
                  <a:pt x="4110" y="12469"/>
                  <a:pt x="4093" y="12427"/>
                </a:cubicBezTo>
                <a:cubicBezTo>
                  <a:pt x="3982" y="12427"/>
                  <a:pt x="4012" y="12412"/>
                  <a:pt x="3944" y="12576"/>
                </a:cubicBezTo>
                <a:cubicBezTo>
                  <a:pt x="3883" y="12723"/>
                  <a:pt x="3861" y="12948"/>
                  <a:pt x="4093" y="12898"/>
                </a:cubicBezTo>
                <a:cubicBezTo>
                  <a:pt x="4189" y="12878"/>
                  <a:pt x="4192" y="12841"/>
                  <a:pt x="4242" y="128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52920" y="4633920"/>
            <a:ext cx="152280" cy="90360"/>
          </a:xfrm>
          <a:custGeom>
            <a:avLst/>
            <a:gdLst/>
            <a:ahLst/>
            <a:rect l="l" t="t" r="r" b="b"/>
            <a:pathLst>
              <a:path w="423" h="249">
                <a:moveTo>
                  <a:pt x="10145" y="12898"/>
                </a:moveTo>
                <a:cubicBezTo>
                  <a:pt x="10269" y="12898"/>
                  <a:pt x="10460" y="12855"/>
                  <a:pt x="10567" y="12874"/>
                </a:cubicBezTo>
                <a:cubicBezTo>
                  <a:pt x="10567" y="12882"/>
                  <a:pt x="10567" y="12890"/>
                  <a:pt x="10567" y="12898"/>
                </a:cubicBezTo>
              </a:path>
              <a:path w="423" h="249">
                <a:moveTo>
                  <a:pt x="10145" y="13097"/>
                </a:moveTo>
                <a:cubicBezTo>
                  <a:pt x="10161" y="13145"/>
                  <a:pt x="10335" y="13099"/>
                  <a:pt x="10393" y="13097"/>
                </a:cubicBezTo>
                <a:cubicBezTo>
                  <a:pt x="10435" y="13097"/>
                  <a:pt x="10443" y="13097"/>
                  <a:pt x="10468" y="130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43240" y="4419720"/>
            <a:ext cx="901800" cy="287280"/>
          </a:xfrm>
          <a:custGeom>
            <a:avLst/>
            <a:gdLst/>
            <a:ahLst/>
            <a:rect l="l" t="t" r="r" b="b"/>
            <a:pathLst>
              <a:path w="2507" h="795">
                <a:moveTo>
                  <a:pt x="11534" y="12502"/>
                </a:moveTo>
                <a:cubicBezTo>
                  <a:pt x="11614" y="12422"/>
                  <a:pt x="11644" y="12412"/>
                  <a:pt x="11757" y="12378"/>
                </a:cubicBezTo>
                <a:cubicBezTo>
                  <a:pt x="11791" y="12563"/>
                  <a:pt x="11718" y="12637"/>
                  <a:pt x="11584" y="12750"/>
                </a:cubicBezTo>
                <a:cubicBezTo>
                  <a:pt x="11529" y="12797"/>
                  <a:pt x="11532" y="12767"/>
                  <a:pt x="11584" y="12750"/>
                </a:cubicBezTo>
                <a:cubicBezTo>
                  <a:pt x="11764" y="12690"/>
                  <a:pt x="11903" y="12739"/>
                  <a:pt x="11807" y="12948"/>
                </a:cubicBezTo>
                <a:cubicBezTo>
                  <a:pt x="11746" y="13081"/>
                  <a:pt x="11622" y="13096"/>
                  <a:pt x="11509" y="13047"/>
                </a:cubicBezTo>
              </a:path>
              <a:path w="2507" h="795">
                <a:moveTo>
                  <a:pt x="12502" y="12551"/>
                </a:moveTo>
                <a:cubicBezTo>
                  <a:pt x="12557" y="12680"/>
                  <a:pt x="12668" y="12761"/>
                  <a:pt x="12750" y="12874"/>
                </a:cubicBezTo>
                <a:cubicBezTo>
                  <a:pt x="12750" y="12882"/>
                  <a:pt x="12750" y="12890"/>
                  <a:pt x="12750" y="12898"/>
                </a:cubicBezTo>
              </a:path>
              <a:path w="2507" h="795">
                <a:moveTo>
                  <a:pt x="12626" y="12551"/>
                </a:moveTo>
                <a:cubicBezTo>
                  <a:pt x="12538" y="12684"/>
                  <a:pt x="12459" y="12812"/>
                  <a:pt x="12378" y="12948"/>
                </a:cubicBezTo>
              </a:path>
              <a:path w="2507" h="795">
                <a:moveTo>
                  <a:pt x="13271" y="12378"/>
                </a:moveTo>
                <a:cubicBezTo>
                  <a:pt x="13271" y="12538"/>
                  <a:pt x="13313" y="12687"/>
                  <a:pt x="13320" y="12849"/>
                </a:cubicBezTo>
                <a:cubicBezTo>
                  <a:pt x="13320" y="12907"/>
                  <a:pt x="13320" y="12948"/>
                  <a:pt x="13320" y="12898"/>
                </a:cubicBezTo>
              </a:path>
              <a:path w="2507" h="795">
                <a:moveTo>
                  <a:pt x="13469" y="12353"/>
                </a:moveTo>
                <a:cubicBezTo>
                  <a:pt x="13495" y="12432"/>
                  <a:pt x="13551" y="12323"/>
                  <a:pt x="13593" y="12303"/>
                </a:cubicBezTo>
                <a:cubicBezTo>
                  <a:pt x="13626" y="12295"/>
                  <a:pt x="13659" y="12286"/>
                  <a:pt x="13692" y="12278"/>
                </a:cubicBezTo>
                <a:cubicBezTo>
                  <a:pt x="13904" y="12420"/>
                  <a:pt x="13927" y="12604"/>
                  <a:pt x="13717" y="12799"/>
                </a:cubicBezTo>
                <a:cubicBezTo>
                  <a:pt x="13613" y="12862"/>
                  <a:pt x="13596" y="12887"/>
                  <a:pt x="13519" y="12874"/>
                </a:cubicBezTo>
                <a:cubicBezTo>
                  <a:pt x="13565" y="12749"/>
                  <a:pt x="13700" y="12700"/>
                  <a:pt x="13841" y="12750"/>
                </a:cubicBezTo>
                <a:cubicBezTo>
                  <a:pt x="13925" y="12780"/>
                  <a:pt x="13986" y="12826"/>
                  <a:pt x="14015" y="128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40160" y="5411880"/>
            <a:ext cx="384120" cy="241200"/>
          </a:xfrm>
          <a:custGeom>
            <a:avLst/>
            <a:gdLst/>
            <a:ahLst/>
            <a:rect l="l" t="t" r="r" b="b"/>
            <a:pathLst>
              <a:path w="1068" h="670">
                <a:moveTo>
                  <a:pt x="12129" y="15081"/>
                </a:moveTo>
                <a:cubicBezTo>
                  <a:pt x="12085" y="15150"/>
                  <a:pt x="12171" y="15036"/>
                  <a:pt x="12229" y="15032"/>
                </a:cubicBezTo>
                <a:cubicBezTo>
                  <a:pt x="12450" y="15018"/>
                  <a:pt x="12329" y="15297"/>
                  <a:pt x="12254" y="15379"/>
                </a:cubicBezTo>
                <a:cubicBezTo>
                  <a:pt x="12214" y="15423"/>
                  <a:pt x="12177" y="15396"/>
                  <a:pt x="12229" y="15379"/>
                </a:cubicBezTo>
                <a:cubicBezTo>
                  <a:pt x="12385" y="15379"/>
                  <a:pt x="12513" y="15505"/>
                  <a:pt x="12328" y="15652"/>
                </a:cubicBezTo>
                <a:cubicBezTo>
                  <a:pt x="12214" y="15742"/>
                  <a:pt x="12134" y="15696"/>
                  <a:pt x="12055" y="15627"/>
                </a:cubicBezTo>
              </a:path>
              <a:path w="1068" h="670">
                <a:moveTo>
                  <a:pt x="12700" y="15032"/>
                </a:moveTo>
                <a:cubicBezTo>
                  <a:pt x="12691" y="15219"/>
                  <a:pt x="12621" y="15417"/>
                  <a:pt x="12626" y="15602"/>
                </a:cubicBezTo>
                <a:cubicBezTo>
                  <a:pt x="12634" y="15619"/>
                  <a:pt x="12642" y="15635"/>
                  <a:pt x="12650" y="15652"/>
                </a:cubicBezTo>
                <a:cubicBezTo>
                  <a:pt x="12845" y="15680"/>
                  <a:pt x="12940" y="15605"/>
                  <a:pt x="13072" y="15453"/>
                </a:cubicBezTo>
                <a:cubicBezTo>
                  <a:pt x="13147" y="15368"/>
                  <a:pt x="13137" y="15358"/>
                  <a:pt x="13072" y="15304"/>
                </a:cubicBezTo>
                <a:cubicBezTo>
                  <a:pt x="12951" y="15335"/>
                  <a:pt x="12829" y="15423"/>
                  <a:pt x="12824" y="15577"/>
                </a:cubicBezTo>
                <a:cubicBezTo>
                  <a:pt x="12832" y="15602"/>
                  <a:pt x="12841" y="15627"/>
                  <a:pt x="12849" y="156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05120" y="5483160"/>
            <a:ext cx="152640" cy="125640"/>
          </a:xfrm>
          <a:custGeom>
            <a:avLst/>
            <a:gdLst/>
            <a:ahLst/>
            <a:rect l="l" t="t" r="r" b="b"/>
            <a:pathLst>
              <a:path w="423" h="348">
                <a:moveTo>
                  <a:pt x="10294" y="15304"/>
                </a:moveTo>
                <a:cubicBezTo>
                  <a:pt x="10404" y="15304"/>
                  <a:pt x="10511" y="15290"/>
                  <a:pt x="10616" y="15255"/>
                </a:cubicBezTo>
                <a:cubicBezTo>
                  <a:pt x="10633" y="15247"/>
                  <a:pt x="10649" y="15238"/>
                  <a:pt x="10666" y="15230"/>
                </a:cubicBezTo>
              </a:path>
              <a:path w="423" h="348">
                <a:moveTo>
                  <a:pt x="10443" y="15577"/>
                </a:moveTo>
                <a:cubicBezTo>
                  <a:pt x="10534" y="15555"/>
                  <a:pt x="10627" y="15521"/>
                  <a:pt x="10716" y="155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xamples: Solving Division Equ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565360" y="137160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65360" y="137160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143000" y="2895480"/>
          <a:ext cx="414504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895480"/>
                    <a:ext cx="41450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295280" y="1143000"/>
          <a:ext cx="296388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1143000"/>
                    <a:ext cx="29638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1371600" y="4724280"/>
          <a:ext cx="429264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724280"/>
                    <a:ext cx="42926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625840" y="2241720"/>
            <a:ext cx="187200" cy="125280"/>
          </a:xfrm>
          <a:custGeom>
            <a:avLst/>
            <a:gdLst/>
            <a:ahLst/>
            <a:rect l="l" t="t" r="r" b="b"/>
            <a:pathLst>
              <a:path w="521" h="348">
                <a:moveTo>
                  <a:pt x="7293" y="6251"/>
                </a:moveTo>
                <a:cubicBezTo>
                  <a:pt x="7445" y="6251"/>
                  <a:pt x="7589" y="6242"/>
                  <a:pt x="7739" y="6226"/>
                </a:cubicBezTo>
                <a:cubicBezTo>
                  <a:pt x="7747" y="6226"/>
                  <a:pt x="7756" y="6226"/>
                  <a:pt x="7764" y="6226"/>
                </a:cubicBezTo>
              </a:path>
              <a:path w="521" h="348">
                <a:moveTo>
                  <a:pt x="7392" y="6573"/>
                </a:moveTo>
                <a:cubicBezTo>
                  <a:pt x="7518" y="6531"/>
                  <a:pt x="7660" y="6505"/>
                  <a:pt x="7789" y="6474"/>
                </a:cubicBezTo>
                <a:cubicBezTo>
                  <a:pt x="7813" y="6474"/>
                  <a:pt x="7821" y="6474"/>
                  <a:pt x="7813" y="64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9080" y="1347840"/>
            <a:ext cx="2233800" cy="1795320"/>
          </a:xfrm>
          <a:custGeom>
            <a:avLst/>
            <a:gdLst/>
            <a:ahLst/>
            <a:rect l="l" t="t" r="r" b="b"/>
            <a:pathLst>
              <a:path w="6202" h="4986">
                <a:moveTo>
                  <a:pt x="3547" y="4986"/>
                </a:moveTo>
                <a:cubicBezTo>
                  <a:pt x="3597" y="5087"/>
                  <a:pt x="3703" y="5205"/>
                  <a:pt x="3770" y="5308"/>
                </a:cubicBezTo>
                <a:cubicBezTo>
                  <a:pt x="3817" y="5380"/>
                  <a:pt x="3830" y="5364"/>
                  <a:pt x="3845" y="5407"/>
                </a:cubicBezTo>
              </a:path>
              <a:path w="6202" h="4986">
                <a:moveTo>
                  <a:pt x="3795" y="4887"/>
                </a:moveTo>
                <a:cubicBezTo>
                  <a:pt x="3771" y="5049"/>
                  <a:pt x="3664" y="5182"/>
                  <a:pt x="3597" y="5333"/>
                </a:cubicBezTo>
                <a:cubicBezTo>
                  <a:pt x="3574" y="5385"/>
                  <a:pt x="3535" y="5454"/>
                  <a:pt x="3522" y="5507"/>
                </a:cubicBezTo>
              </a:path>
              <a:path w="6202" h="4986">
                <a:moveTo>
                  <a:pt x="2853" y="4539"/>
                </a:moveTo>
                <a:cubicBezTo>
                  <a:pt x="2832" y="4642"/>
                  <a:pt x="2812" y="4732"/>
                  <a:pt x="2778" y="4837"/>
                </a:cubicBezTo>
                <a:cubicBezTo>
                  <a:pt x="2770" y="4862"/>
                  <a:pt x="2761" y="4886"/>
                  <a:pt x="2753" y="4911"/>
                </a:cubicBezTo>
                <a:cubicBezTo>
                  <a:pt x="2897" y="4911"/>
                  <a:pt x="3038" y="4910"/>
                  <a:pt x="3175" y="4936"/>
                </a:cubicBezTo>
                <a:cubicBezTo>
                  <a:pt x="3203" y="4936"/>
                  <a:pt x="3214" y="4934"/>
                  <a:pt x="3225" y="4911"/>
                </a:cubicBezTo>
              </a:path>
              <a:path w="6202" h="4986">
                <a:moveTo>
                  <a:pt x="3225" y="4366"/>
                </a:moveTo>
                <a:cubicBezTo>
                  <a:pt x="3269" y="4640"/>
                  <a:pt x="3249" y="4929"/>
                  <a:pt x="3249" y="5209"/>
                </a:cubicBezTo>
                <a:cubicBezTo>
                  <a:pt x="3249" y="5275"/>
                  <a:pt x="3249" y="5341"/>
                  <a:pt x="3249" y="5407"/>
                </a:cubicBezTo>
              </a:path>
              <a:path w="6202" h="4986">
                <a:moveTo>
                  <a:pt x="2828" y="5581"/>
                </a:moveTo>
                <a:cubicBezTo>
                  <a:pt x="2803" y="5581"/>
                  <a:pt x="2795" y="5581"/>
                  <a:pt x="2803" y="5556"/>
                </a:cubicBezTo>
                <a:cubicBezTo>
                  <a:pt x="2932" y="5556"/>
                  <a:pt x="3054" y="5561"/>
                  <a:pt x="3175" y="5531"/>
                </a:cubicBezTo>
                <a:cubicBezTo>
                  <a:pt x="3238" y="5515"/>
                  <a:pt x="3309" y="5523"/>
                  <a:pt x="3373" y="5507"/>
                </a:cubicBezTo>
                <a:cubicBezTo>
                  <a:pt x="3394" y="5502"/>
                  <a:pt x="3426" y="5507"/>
                  <a:pt x="3448" y="5507"/>
                </a:cubicBezTo>
              </a:path>
              <a:path w="6202" h="4986">
                <a:moveTo>
                  <a:pt x="3101" y="5854"/>
                </a:moveTo>
                <a:cubicBezTo>
                  <a:pt x="3101" y="5846"/>
                  <a:pt x="3101" y="5837"/>
                  <a:pt x="3101" y="5829"/>
                </a:cubicBezTo>
                <a:cubicBezTo>
                  <a:pt x="3073" y="5939"/>
                  <a:pt x="3122" y="6102"/>
                  <a:pt x="3150" y="6226"/>
                </a:cubicBezTo>
                <a:cubicBezTo>
                  <a:pt x="3165" y="6292"/>
                  <a:pt x="3168" y="6372"/>
                  <a:pt x="3200" y="6424"/>
                </a:cubicBezTo>
              </a:path>
              <a:path w="6202" h="4986">
                <a:moveTo>
                  <a:pt x="2555" y="4217"/>
                </a:moveTo>
                <a:cubicBezTo>
                  <a:pt x="2571" y="4250"/>
                  <a:pt x="2585" y="4309"/>
                  <a:pt x="2604" y="4341"/>
                </a:cubicBezTo>
                <a:cubicBezTo>
                  <a:pt x="2627" y="4379"/>
                  <a:pt x="2657" y="4403"/>
                  <a:pt x="2679" y="4440"/>
                </a:cubicBezTo>
                <a:cubicBezTo>
                  <a:pt x="2710" y="4492"/>
                  <a:pt x="2738" y="4544"/>
                  <a:pt x="2778" y="4589"/>
                </a:cubicBezTo>
                <a:cubicBezTo>
                  <a:pt x="2820" y="4635"/>
                  <a:pt x="2831" y="4685"/>
                  <a:pt x="2853" y="4738"/>
                </a:cubicBezTo>
                <a:cubicBezTo>
                  <a:pt x="2888" y="4820"/>
                  <a:pt x="2966" y="4896"/>
                  <a:pt x="3026" y="4961"/>
                </a:cubicBezTo>
                <a:cubicBezTo>
                  <a:pt x="3076" y="5015"/>
                  <a:pt x="3147" y="5037"/>
                  <a:pt x="3200" y="5085"/>
                </a:cubicBezTo>
                <a:cubicBezTo>
                  <a:pt x="3250" y="5130"/>
                  <a:pt x="3300" y="5159"/>
                  <a:pt x="3349" y="5209"/>
                </a:cubicBezTo>
                <a:cubicBezTo>
                  <a:pt x="3382" y="5242"/>
                  <a:pt x="3427" y="5287"/>
                  <a:pt x="3448" y="5308"/>
                </a:cubicBezTo>
                <a:cubicBezTo>
                  <a:pt x="3484" y="5331"/>
                  <a:pt x="3537" y="5352"/>
                  <a:pt x="3572" y="5383"/>
                </a:cubicBezTo>
                <a:cubicBezTo>
                  <a:pt x="3580" y="5391"/>
                  <a:pt x="3589" y="5399"/>
                  <a:pt x="3597" y="5407"/>
                </a:cubicBezTo>
              </a:path>
              <a:path w="6202" h="4986">
                <a:moveTo>
                  <a:pt x="3001" y="3746"/>
                </a:moveTo>
                <a:cubicBezTo>
                  <a:pt x="3001" y="3911"/>
                  <a:pt x="3001" y="4077"/>
                  <a:pt x="3001" y="4242"/>
                </a:cubicBezTo>
              </a:path>
              <a:path w="6202" h="4986">
                <a:moveTo>
                  <a:pt x="4217" y="5581"/>
                </a:moveTo>
                <a:cubicBezTo>
                  <a:pt x="4303" y="5603"/>
                  <a:pt x="4372" y="5743"/>
                  <a:pt x="4440" y="5804"/>
                </a:cubicBezTo>
                <a:cubicBezTo>
                  <a:pt x="4579" y="5930"/>
                  <a:pt x="4694" y="6079"/>
                  <a:pt x="4837" y="6201"/>
                </a:cubicBezTo>
                <a:cubicBezTo>
                  <a:pt x="4931" y="6280"/>
                  <a:pt x="4939" y="6321"/>
                  <a:pt x="5011" y="6400"/>
                </a:cubicBezTo>
                <a:cubicBezTo>
                  <a:pt x="5035" y="6400"/>
                  <a:pt x="5043" y="6400"/>
                  <a:pt x="5035" y="6424"/>
                </a:cubicBezTo>
              </a:path>
              <a:path w="6202" h="4986">
                <a:moveTo>
                  <a:pt x="5209" y="6251"/>
                </a:moveTo>
                <a:cubicBezTo>
                  <a:pt x="5209" y="6226"/>
                  <a:pt x="5209" y="6218"/>
                  <a:pt x="5209" y="6201"/>
                </a:cubicBezTo>
                <a:cubicBezTo>
                  <a:pt x="5233" y="6322"/>
                  <a:pt x="5234" y="6444"/>
                  <a:pt x="5234" y="6573"/>
                </a:cubicBezTo>
                <a:cubicBezTo>
                  <a:pt x="5234" y="6601"/>
                  <a:pt x="5236" y="6612"/>
                  <a:pt x="5259" y="6623"/>
                </a:cubicBezTo>
              </a:path>
              <a:path w="6202" h="4986">
                <a:moveTo>
                  <a:pt x="6028" y="6747"/>
                </a:moveTo>
                <a:cubicBezTo>
                  <a:pt x="6074" y="6763"/>
                  <a:pt x="6055" y="6772"/>
                  <a:pt x="6028" y="6697"/>
                </a:cubicBezTo>
                <a:cubicBezTo>
                  <a:pt x="6008" y="6637"/>
                  <a:pt x="6009" y="6622"/>
                  <a:pt x="5978" y="6598"/>
                </a:cubicBezTo>
                <a:cubicBezTo>
                  <a:pt x="5802" y="6657"/>
                  <a:pt x="5734" y="6845"/>
                  <a:pt x="5730" y="7045"/>
                </a:cubicBezTo>
                <a:cubicBezTo>
                  <a:pt x="5725" y="7297"/>
                  <a:pt x="6021" y="7151"/>
                  <a:pt x="6127" y="7094"/>
                </a:cubicBezTo>
                <a:cubicBezTo>
                  <a:pt x="6152" y="7069"/>
                  <a:pt x="6160" y="7061"/>
                  <a:pt x="6176" y="7045"/>
                </a:cubicBezTo>
              </a:path>
              <a:path w="6202" h="4986">
                <a:moveTo>
                  <a:pt x="5631" y="7342"/>
                </a:moveTo>
                <a:cubicBezTo>
                  <a:pt x="5828" y="7303"/>
                  <a:pt x="6024" y="7263"/>
                  <a:pt x="6226" y="7243"/>
                </a:cubicBezTo>
                <a:cubicBezTo>
                  <a:pt x="6280" y="7238"/>
                  <a:pt x="6288" y="7231"/>
                  <a:pt x="6300" y="7268"/>
                </a:cubicBezTo>
              </a:path>
              <a:path w="6202" h="4986">
                <a:moveTo>
                  <a:pt x="5928" y="7516"/>
                </a:moveTo>
                <a:cubicBezTo>
                  <a:pt x="5928" y="7616"/>
                  <a:pt x="5948" y="7713"/>
                  <a:pt x="5953" y="7813"/>
                </a:cubicBezTo>
                <a:cubicBezTo>
                  <a:pt x="5953" y="7821"/>
                  <a:pt x="5953" y="7830"/>
                  <a:pt x="5953" y="7838"/>
                </a:cubicBezTo>
              </a:path>
              <a:path w="6202" h="4986">
                <a:moveTo>
                  <a:pt x="6127" y="8334"/>
                </a:moveTo>
                <a:cubicBezTo>
                  <a:pt x="6183" y="8325"/>
                  <a:pt x="6221" y="8269"/>
                  <a:pt x="6127" y="8210"/>
                </a:cubicBezTo>
                <a:cubicBezTo>
                  <a:pt x="6110" y="8210"/>
                  <a:pt x="6094" y="8210"/>
                  <a:pt x="6077" y="8210"/>
                </a:cubicBezTo>
                <a:cubicBezTo>
                  <a:pt x="6000" y="8268"/>
                  <a:pt x="5849" y="8550"/>
                  <a:pt x="5953" y="8682"/>
                </a:cubicBezTo>
                <a:cubicBezTo>
                  <a:pt x="6078" y="8840"/>
                  <a:pt x="6326" y="8638"/>
                  <a:pt x="6424" y="8558"/>
                </a:cubicBezTo>
              </a:path>
              <a:path w="6202" h="4986">
                <a:moveTo>
                  <a:pt x="6896" y="8260"/>
                </a:moveTo>
                <a:cubicBezTo>
                  <a:pt x="6982" y="8225"/>
                  <a:pt x="7051" y="8210"/>
                  <a:pt x="7144" y="8210"/>
                </a:cubicBezTo>
              </a:path>
              <a:path w="6202" h="4986">
                <a:moveTo>
                  <a:pt x="6945" y="8434"/>
                </a:moveTo>
                <a:cubicBezTo>
                  <a:pt x="7028" y="8401"/>
                  <a:pt x="7103" y="8359"/>
                  <a:pt x="7193" y="8359"/>
                </a:cubicBezTo>
              </a:path>
              <a:path w="6202" h="4986">
                <a:moveTo>
                  <a:pt x="7640" y="8012"/>
                </a:moveTo>
                <a:cubicBezTo>
                  <a:pt x="7709" y="7966"/>
                  <a:pt x="7876" y="7877"/>
                  <a:pt x="7938" y="7987"/>
                </a:cubicBezTo>
                <a:cubicBezTo>
                  <a:pt x="8004" y="8105"/>
                  <a:pt x="7832" y="8163"/>
                  <a:pt x="7764" y="8210"/>
                </a:cubicBezTo>
                <a:cubicBezTo>
                  <a:pt x="7868" y="8193"/>
                  <a:pt x="8022" y="8167"/>
                  <a:pt x="8012" y="8334"/>
                </a:cubicBezTo>
                <a:cubicBezTo>
                  <a:pt x="8006" y="8436"/>
                  <a:pt x="7739" y="8623"/>
                  <a:pt x="7665" y="8508"/>
                </a:cubicBezTo>
                <a:cubicBezTo>
                  <a:pt x="7665" y="8483"/>
                  <a:pt x="7665" y="8459"/>
                  <a:pt x="7665" y="8434"/>
                </a:cubicBezTo>
              </a:path>
              <a:path w="6202" h="4986">
                <a:moveTo>
                  <a:pt x="8285" y="7938"/>
                </a:moveTo>
                <a:cubicBezTo>
                  <a:pt x="8285" y="8076"/>
                  <a:pt x="8245" y="8283"/>
                  <a:pt x="8310" y="8409"/>
                </a:cubicBezTo>
                <a:cubicBezTo>
                  <a:pt x="8392" y="8569"/>
                  <a:pt x="8582" y="8503"/>
                  <a:pt x="8682" y="8409"/>
                </a:cubicBezTo>
                <a:cubicBezTo>
                  <a:pt x="8761" y="8335"/>
                  <a:pt x="8756" y="8332"/>
                  <a:pt x="8756" y="8260"/>
                </a:cubicBezTo>
                <a:cubicBezTo>
                  <a:pt x="8621" y="8270"/>
                  <a:pt x="8519" y="8290"/>
                  <a:pt x="8533" y="8458"/>
                </a:cubicBezTo>
                <a:cubicBezTo>
                  <a:pt x="8541" y="8475"/>
                  <a:pt x="8550" y="8491"/>
                  <a:pt x="8558" y="85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21040" y="1687680"/>
            <a:ext cx="135000" cy="161640"/>
          </a:xfrm>
          <a:custGeom>
            <a:avLst/>
            <a:gdLst/>
            <a:ahLst/>
            <a:rect l="l" t="t" r="r" b="b"/>
            <a:pathLst>
              <a:path w="373" h="448">
                <a:moveTo>
                  <a:pt x="10616" y="4787"/>
                </a:moveTo>
                <a:cubicBezTo>
                  <a:pt x="10731" y="4845"/>
                  <a:pt x="10824" y="4961"/>
                  <a:pt x="10914" y="5060"/>
                </a:cubicBezTo>
                <a:cubicBezTo>
                  <a:pt x="10951" y="5101"/>
                  <a:pt x="10974" y="5066"/>
                  <a:pt x="10988" y="5110"/>
                </a:cubicBezTo>
              </a:path>
              <a:path w="373" h="448">
                <a:moveTo>
                  <a:pt x="10914" y="4688"/>
                </a:moveTo>
                <a:cubicBezTo>
                  <a:pt x="10889" y="4786"/>
                  <a:pt x="10770" y="4891"/>
                  <a:pt x="10716" y="4986"/>
                </a:cubicBezTo>
                <a:cubicBezTo>
                  <a:pt x="10690" y="5031"/>
                  <a:pt x="10653" y="5088"/>
                  <a:pt x="10641" y="51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081320" y="1527120"/>
            <a:ext cx="150840" cy="374760"/>
          </a:xfrm>
          <a:custGeom>
            <a:avLst/>
            <a:gdLst/>
            <a:ahLst/>
            <a:rect l="l" t="t" r="r" b="b"/>
            <a:pathLst>
              <a:path w="422" h="1042">
                <a:moveTo>
                  <a:pt x="11361" y="4415"/>
                </a:moveTo>
                <a:cubicBezTo>
                  <a:pt x="11403" y="4546"/>
                  <a:pt x="11398" y="4702"/>
                  <a:pt x="11361" y="4837"/>
                </a:cubicBezTo>
                <a:cubicBezTo>
                  <a:pt x="11353" y="4845"/>
                  <a:pt x="11344" y="4854"/>
                  <a:pt x="11336" y="4862"/>
                </a:cubicBezTo>
                <a:cubicBezTo>
                  <a:pt x="11484" y="4845"/>
                  <a:pt x="11606" y="4823"/>
                  <a:pt x="11757" y="4837"/>
                </a:cubicBezTo>
              </a:path>
              <a:path w="422" h="1042">
                <a:moveTo>
                  <a:pt x="11633" y="4242"/>
                </a:moveTo>
                <a:cubicBezTo>
                  <a:pt x="11668" y="4446"/>
                  <a:pt x="11699" y="4652"/>
                  <a:pt x="11708" y="4862"/>
                </a:cubicBezTo>
                <a:cubicBezTo>
                  <a:pt x="11715" y="5012"/>
                  <a:pt x="11683" y="5138"/>
                  <a:pt x="11683" y="52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11360" y="2268360"/>
            <a:ext cx="142920" cy="241560"/>
          </a:xfrm>
          <a:custGeom>
            <a:avLst/>
            <a:gdLst/>
            <a:ahLst/>
            <a:rect l="l" t="t" r="r" b="b"/>
            <a:pathLst>
              <a:path w="398" h="671">
                <a:moveTo>
                  <a:pt x="9575" y="6424"/>
                </a:moveTo>
                <a:cubicBezTo>
                  <a:pt x="9627" y="6294"/>
                  <a:pt x="9731" y="6318"/>
                  <a:pt x="9847" y="6325"/>
                </a:cubicBezTo>
                <a:cubicBezTo>
                  <a:pt x="9861" y="6519"/>
                  <a:pt x="9783" y="6560"/>
                  <a:pt x="9624" y="6672"/>
                </a:cubicBezTo>
                <a:cubicBezTo>
                  <a:pt x="9570" y="6646"/>
                  <a:pt x="9768" y="6593"/>
                  <a:pt x="9823" y="6672"/>
                </a:cubicBezTo>
                <a:cubicBezTo>
                  <a:pt x="9947" y="6850"/>
                  <a:pt x="9703" y="7005"/>
                  <a:pt x="9550" y="6970"/>
                </a:cubicBezTo>
                <a:cubicBezTo>
                  <a:pt x="9455" y="6908"/>
                  <a:pt x="9445" y="6873"/>
                  <a:pt x="9575" y="67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70200" y="2295360"/>
            <a:ext cx="179640" cy="196920"/>
          </a:xfrm>
          <a:custGeom>
            <a:avLst/>
            <a:gdLst/>
            <a:ahLst/>
            <a:rect l="l" t="t" r="r" b="b"/>
            <a:pathLst>
              <a:path w="497" h="547">
                <a:moveTo>
                  <a:pt x="10195" y="6375"/>
                </a:moveTo>
                <a:cubicBezTo>
                  <a:pt x="10222" y="6482"/>
                  <a:pt x="10207" y="6602"/>
                  <a:pt x="10220" y="6722"/>
                </a:cubicBezTo>
                <a:cubicBezTo>
                  <a:pt x="10241" y="6909"/>
                  <a:pt x="10400" y="6936"/>
                  <a:pt x="10542" y="6821"/>
                </a:cubicBezTo>
                <a:cubicBezTo>
                  <a:pt x="10652" y="6689"/>
                  <a:pt x="10689" y="6662"/>
                  <a:pt x="10691" y="6548"/>
                </a:cubicBezTo>
                <a:cubicBezTo>
                  <a:pt x="10513" y="6562"/>
                  <a:pt x="10401" y="6686"/>
                  <a:pt x="10393" y="6896"/>
                </a:cubicBezTo>
                <a:cubicBezTo>
                  <a:pt x="10401" y="6904"/>
                  <a:pt x="10410" y="6913"/>
                  <a:pt x="10418" y="69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70840" y="4554360"/>
            <a:ext cx="563400" cy="1062360"/>
          </a:xfrm>
          <a:custGeom>
            <a:avLst/>
            <a:gdLst/>
            <a:ahLst/>
            <a:rect l="l" t="t" r="r" b="b"/>
            <a:pathLst>
              <a:path w="1564" h="2953">
                <a:moveTo>
                  <a:pt x="19918" y="15205"/>
                </a:moveTo>
                <a:cubicBezTo>
                  <a:pt x="19999" y="15269"/>
                  <a:pt x="20080" y="15342"/>
                  <a:pt x="20166" y="15404"/>
                </a:cubicBezTo>
                <a:cubicBezTo>
                  <a:pt x="20236" y="15455"/>
                  <a:pt x="20307" y="15526"/>
                  <a:pt x="20365" y="15577"/>
                </a:cubicBezTo>
                <a:cubicBezTo>
                  <a:pt x="20365" y="15602"/>
                  <a:pt x="20365" y="15610"/>
                  <a:pt x="20389" y="15602"/>
                </a:cubicBezTo>
                <a:cubicBezTo>
                  <a:pt x="20434" y="15358"/>
                  <a:pt x="20486" y="15121"/>
                  <a:pt x="20563" y="14883"/>
                </a:cubicBezTo>
                <a:cubicBezTo>
                  <a:pt x="20751" y="14300"/>
                  <a:pt x="21022" y="13745"/>
                  <a:pt x="21233" y="13171"/>
                </a:cubicBezTo>
                <a:cubicBezTo>
                  <a:pt x="21281" y="13040"/>
                  <a:pt x="21342" y="12845"/>
                  <a:pt x="21406" y="12725"/>
                </a:cubicBezTo>
                <a:cubicBezTo>
                  <a:pt x="21439" y="12663"/>
                  <a:pt x="21450" y="12681"/>
                  <a:pt x="21481" y="126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680080" y="1177920"/>
            <a:ext cx="1017720" cy="1332000"/>
          </a:xfrm>
          <a:custGeom>
            <a:avLst/>
            <a:gdLst/>
            <a:ahLst/>
            <a:rect l="l" t="t" r="r" b="b"/>
            <a:pathLst>
              <a:path w="2829" h="3697">
                <a:moveTo>
                  <a:pt x="17016" y="4614"/>
                </a:moveTo>
                <a:cubicBezTo>
                  <a:pt x="17168" y="4512"/>
                  <a:pt x="17146" y="4455"/>
                  <a:pt x="17338" y="4490"/>
                </a:cubicBezTo>
                <a:cubicBezTo>
                  <a:pt x="17305" y="4695"/>
                  <a:pt x="17268" y="4783"/>
                  <a:pt x="17115" y="4936"/>
                </a:cubicBezTo>
                <a:cubicBezTo>
                  <a:pt x="17221" y="4831"/>
                  <a:pt x="17383" y="4863"/>
                  <a:pt x="17338" y="5060"/>
                </a:cubicBezTo>
                <a:cubicBezTo>
                  <a:pt x="17288" y="5280"/>
                  <a:pt x="17141" y="5244"/>
                  <a:pt x="16966" y="5259"/>
                </a:cubicBezTo>
              </a:path>
              <a:path w="2829" h="3697">
                <a:moveTo>
                  <a:pt x="17735" y="4539"/>
                </a:moveTo>
                <a:cubicBezTo>
                  <a:pt x="17735" y="4695"/>
                  <a:pt x="17678" y="4823"/>
                  <a:pt x="17686" y="4986"/>
                </a:cubicBezTo>
                <a:cubicBezTo>
                  <a:pt x="17698" y="5228"/>
                  <a:pt x="17837" y="5298"/>
                  <a:pt x="18033" y="5135"/>
                </a:cubicBezTo>
                <a:cubicBezTo>
                  <a:pt x="18115" y="5033"/>
                  <a:pt x="18148" y="5019"/>
                  <a:pt x="18132" y="4936"/>
                </a:cubicBezTo>
                <a:cubicBezTo>
                  <a:pt x="17968" y="4903"/>
                  <a:pt x="17909" y="5011"/>
                  <a:pt x="17909" y="5184"/>
                </a:cubicBezTo>
                <a:cubicBezTo>
                  <a:pt x="17917" y="5201"/>
                  <a:pt x="17926" y="5217"/>
                  <a:pt x="17934" y="5234"/>
                </a:cubicBezTo>
              </a:path>
              <a:path w="2829" h="3697">
                <a:moveTo>
                  <a:pt x="16867" y="5730"/>
                </a:moveTo>
                <a:cubicBezTo>
                  <a:pt x="16859" y="5516"/>
                  <a:pt x="16848" y="5339"/>
                  <a:pt x="16768" y="5135"/>
                </a:cubicBezTo>
                <a:cubicBezTo>
                  <a:pt x="16708" y="4983"/>
                  <a:pt x="16590" y="4839"/>
                  <a:pt x="16545" y="4688"/>
                </a:cubicBezTo>
                <a:cubicBezTo>
                  <a:pt x="16530" y="4638"/>
                  <a:pt x="16572" y="4632"/>
                  <a:pt x="16594" y="4589"/>
                </a:cubicBezTo>
                <a:cubicBezTo>
                  <a:pt x="16608" y="4563"/>
                  <a:pt x="16633" y="4502"/>
                  <a:pt x="16619" y="4440"/>
                </a:cubicBezTo>
                <a:cubicBezTo>
                  <a:pt x="16612" y="4410"/>
                  <a:pt x="16597" y="4382"/>
                  <a:pt x="16594" y="4341"/>
                </a:cubicBezTo>
                <a:cubicBezTo>
                  <a:pt x="16889" y="4252"/>
                  <a:pt x="17176" y="4178"/>
                  <a:pt x="17487" y="4142"/>
                </a:cubicBezTo>
                <a:cubicBezTo>
                  <a:pt x="17601" y="4129"/>
                  <a:pt x="18031" y="4053"/>
                  <a:pt x="18083" y="4118"/>
                </a:cubicBezTo>
              </a:path>
              <a:path w="2829" h="3697">
                <a:moveTo>
                  <a:pt x="15801" y="4787"/>
                </a:moveTo>
                <a:cubicBezTo>
                  <a:pt x="15790" y="4864"/>
                  <a:pt x="15776" y="4932"/>
                  <a:pt x="15776" y="5011"/>
                </a:cubicBezTo>
                <a:cubicBezTo>
                  <a:pt x="15917" y="5001"/>
                  <a:pt x="16056" y="4973"/>
                  <a:pt x="16197" y="4961"/>
                </a:cubicBezTo>
              </a:path>
              <a:path w="2829" h="3697">
                <a:moveTo>
                  <a:pt x="15974" y="4490"/>
                </a:moveTo>
                <a:cubicBezTo>
                  <a:pt x="16020" y="4798"/>
                  <a:pt x="16104" y="5099"/>
                  <a:pt x="16148" y="5407"/>
                </a:cubicBezTo>
                <a:cubicBezTo>
                  <a:pt x="16148" y="5424"/>
                  <a:pt x="16148" y="5440"/>
                  <a:pt x="16148" y="5457"/>
                </a:cubicBezTo>
              </a:path>
              <a:path w="2829" h="3697">
                <a:moveTo>
                  <a:pt x="17859" y="3423"/>
                </a:moveTo>
                <a:cubicBezTo>
                  <a:pt x="17884" y="3423"/>
                  <a:pt x="17892" y="3423"/>
                  <a:pt x="17884" y="3398"/>
                </a:cubicBezTo>
              </a:path>
              <a:path w="2829" h="3697">
                <a:moveTo>
                  <a:pt x="17884" y="3398"/>
                </a:moveTo>
                <a:lnTo>
                  <a:pt x="17884" y="3398"/>
                </a:lnTo>
              </a:path>
              <a:path w="2829" h="3697">
                <a:moveTo>
                  <a:pt x="17884" y="3398"/>
                </a:moveTo>
                <a:cubicBezTo>
                  <a:pt x="17864" y="3318"/>
                  <a:pt x="17835" y="3258"/>
                  <a:pt x="17735" y="3274"/>
                </a:cubicBezTo>
                <a:cubicBezTo>
                  <a:pt x="17580" y="3299"/>
                  <a:pt x="17576" y="3476"/>
                  <a:pt x="17562" y="3597"/>
                </a:cubicBezTo>
                <a:cubicBezTo>
                  <a:pt x="17738" y="3693"/>
                  <a:pt x="17824" y="3636"/>
                  <a:pt x="17909" y="3448"/>
                </a:cubicBezTo>
                <a:cubicBezTo>
                  <a:pt x="17941" y="3377"/>
                  <a:pt x="17946" y="3311"/>
                  <a:pt x="17909" y="3274"/>
                </a:cubicBezTo>
                <a:cubicBezTo>
                  <a:pt x="17909" y="3462"/>
                  <a:pt x="17885" y="3667"/>
                  <a:pt x="17934" y="3845"/>
                </a:cubicBezTo>
              </a:path>
              <a:path w="2829" h="3697">
                <a:moveTo>
                  <a:pt x="17264" y="5581"/>
                </a:moveTo>
                <a:cubicBezTo>
                  <a:pt x="17264" y="5484"/>
                  <a:pt x="17370" y="5401"/>
                  <a:pt x="17462" y="5383"/>
                </a:cubicBezTo>
                <a:cubicBezTo>
                  <a:pt x="17479" y="5391"/>
                  <a:pt x="17495" y="5399"/>
                  <a:pt x="17512" y="5407"/>
                </a:cubicBezTo>
                <a:cubicBezTo>
                  <a:pt x="17485" y="5595"/>
                  <a:pt x="17443" y="5680"/>
                  <a:pt x="17314" y="5829"/>
                </a:cubicBezTo>
                <a:cubicBezTo>
                  <a:pt x="17360" y="5691"/>
                  <a:pt x="17564" y="5631"/>
                  <a:pt x="17611" y="5829"/>
                </a:cubicBezTo>
                <a:cubicBezTo>
                  <a:pt x="17648" y="5988"/>
                  <a:pt x="17317" y="6230"/>
                  <a:pt x="17239" y="6052"/>
                </a:cubicBezTo>
                <a:cubicBezTo>
                  <a:pt x="17247" y="6003"/>
                  <a:pt x="17256" y="5953"/>
                  <a:pt x="17264" y="5904"/>
                </a:cubicBezTo>
              </a:path>
              <a:path w="2829" h="3697">
                <a:moveTo>
                  <a:pt x="17959" y="5432"/>
                </a:moveTo>
                <a:cubicBezTo>
                  <a:pt x="17959" y="5598"/>
                  <a:pt x="17945" y="5746"/>
                  <a:pt x="18008" y="5904"/>
                </a:cubicBezTo>
                <a:cubicBezTo>
                  <a:pt x="18025" y="5929"/>
                  <a:pt x="18041" y="5953"/>
                  <a:pt x="18058" y="5978"/>
                </a:cubicBezTo>
                <a:cubicBezTo>
                  <a:pt x="18261" y="5892"/>
                  <a:pt x="18312" y="5838"/>
                  <a:pt x="18281" y="5606"/>
                </a:cubicBezTo>
                <a:cubicBezTo>
                  <a:pt x="18141" y="5725"/>
                  <a:pt x="18132" y="5785"/>
                  <a:pt x="18132" y="5978"/>
                </a:cubicBezTo>
              </a:path>
              <a:path w="2829" h="3697">
                <a:moveTo>
                  <a:pt x="16867" y="6028"/>
                </a:moveTo>
                <a:cubicBezTo>
                  <a:pt x="16976" y="5966"/>
                  <a:pt x="17042" y="5943"/>
                  <a:pt x="17165" y="5928"/>
                </a:cubicBezTo>
              </a:path>
              <a:path w="2829" h="3697">
                <a:moveTo>
                  <a:pt x="17090" y="6499"/>
                </a:moveTo>
                <a:cubicBezTo>
                  <a:pt x="17565" y="6358"/>
                  <a:pt x="18035" y="6233"/>
                  <a:pt x="18529" y="6176"/>
                </a:cubicBezTo>
                <a:cubicBezTo>
                  <a:pt x="18554" y="6173"/>
                  <a:pt x="18579" y="6178"/>
                  <a:pt x="18604" y="6176"/>
                </a:cubicBezTo>
              </a:path>
              <a:path w="2829" h="3697">
                <a:moveTo>
                  <a:pt x="18380" y="6548"/>
                </a:moveTo>
                <a:cubicBezTo>
                  <a:pt x="18319" y="6563"/>
                  <a:pt x="18282" y="6665"/>
                  <a:pt x="18256" y="6722"/>
                </a:cubicBezTo>
                <a:cubicBezTo>
                  <a:pt x="18198" y="6847"/>
                  <a:pt x="18165" y="6988"/>
                  <a:pt x="18355" y="6970"/>
                </a:cubicBezTo>
                <a:cubicBezTo>
                  <a:pt x="18520" y="6954"/>
                  <a:pt x="18565" y="6835"/>
                  <a:pt x="18579" y="6697"/>
                </a:cubicBezTo>
                <a:cubicBezTo>
                  <a:pt x="18582" y="6668"/>
                  <a:pt x="18558" y="6587"/>
                  <a:pt x="18529" y="6573"/>
                </a:cubicBezTo>
                <a:cubicBezTo>
                  <a:pt x="18474" y="6545"/>
                  <a:pt x="18425" y="6539"/>
                  <a:pt x="18380" y="6548"/>
                </a:cubicBezTo>
                <a:cubicBezTo>
                  <a:pt x="18324" y="6559"/>
                  <a:pt x="18339" y="6567"/>
                  <a:pt x="18331" y="66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57920" y="2963880"/>
            <a:ext cx="1108080" cy="1366920"/>
          </a:xfrm>
          <a:custGeom>
            <a:avLst/>
            <a:gdLst/>
            <a:ahLst/>
            <a:rect l="l" t="t" r="r" b="b"/>
            <a:pathLst>
              <a:path w="3077" h="3796">
                <a:moveTo>
                  <a:pt x="18008" y="9649"/>
                </a:moveTo>
                <a:cubicBezTo>
                  <a:pt x="17919" y="9738"/>
                  <a:pt x="17957" y="9640"/>
                  <a:pt x="18058" y="9599"/>
                </a:cubicBezTo>
                <a:cubicBezTo>
                  <a:pt x="18099" y="9591"/>
                  <a:pt x="18141" y="9583"/>
                  <a:pt x="18182" y="9575"/>
                </a:cubicBezTo>
                <a:cubicBezTo>
                  <a:pt x="18265" y="9962"/>
                  <a:pt x="18089" y="10185"/>
                  <a:pt x="17661" y="10269"/>
                </a:cubicBezTo>
                <a:cubicBezTo>
                  <a:pt x="17620" y="10261"/>
                  <a:pt x="17578" y="10252"/>
                  <a:pt x="17537" y="10244"/>
                </a:cubicBezTo>
                <a:cubicBezTo>
                  <a:pt x="17668" y="10047"/>
                  <a:pt x="17809" y="9966"/>
                  <a:pt x="18033" y="10145"/>
                </a:cubicBezTo>
                <a:cubicBezTo>
                  <a:pt x="18041" y="10162"/>
                  <a:pt x="18050" y="10178"/>
                  <a:pt x="18058" y="10195"/>
                </a:cubicBezTo>
              </a:path>
              <a:path w="3077" h="3796">
                <a:moveTo>
                  <a:pt x="18430" y="9599"/>
                </a:moveTo>
                <a:cubicBezTo>
                  <a:pt x="18461" y="9680"/>
                  <a:pt x="18450" y="9767"/>
                  <a:pt x="18504" y="9847"/>
                </a:cubicBezTo>
                <a:cubicBezTo>
                  <a:pt x="18765" y="9821"/>
                  <a:pt x="18865" y="9740"/>
                  <a:pt x="18876" y="9451"/>
                </a:cubicBezTo>
                <a:cubicBezTo>
                  <a:pt x="18868" y="9410"/>
                  <a:pt x="18860" y="9368"/>
                  <a:pt x="18852" y="9327"/>
                </a:cubicBezTo>
                <a:cubicBezTo>
                  <a:pt x="18793" y="9443"/>
                  <a:pt x="18739" y="9836"/>
                  <a:pt x="18703" y="10046"/>
                </a:cubicBezTo>
                <a:cubicBezTo>
                  <a:pt x="18682" y="10171"/>
                  <a:pt x="18697" y="10213"/>
                  <a:pt x="18604" y="10220"/>
                </a:cubicBezTo>
              </a:path>
              <a:path w="3077" h="3796">
                <a:moveTo>
                  <a:pt x="17214" y="10443"/>
                </a:moveTo>
                <a:cubicBezTo>
                  <a:pt x="17267" y="10156"/>
                  <a:pt x="17229" y="9914"/>
                  <a:pt x="17214" y="9624"/>
                </a:cubicBezTo>
                <a:cubicBezTo>
                  <a:pt x="17208" y="9504"/>
                  <a:pt x="17206" y="9455"/>
                  <a:pt x="17190" y="9351"/>
                </a:cubicBezTo>
                <a:cubicBezTo>
                  <a:pt x="17510" y="9302"/>
                  <a:pt x="17835" y="9240"/>
                  <a:pt x="18157" y="9203"/>
                </a:cubicBezTo>
                <a:cubicBezTo>
                  <a:pt x="18530" y="9160"/>
                  <a:pt x="18968" y="9091"/>
                  <a:pt x="19348" y="9128"/>
                </a:cubicBezTo>
                <a:cubicBezTo>
                  <a:pt x="19340" y="9136"/>
                  <a:pt x="19331" y="9145"/>
                  <a:pt x="19323" y="9153"/>
                </a:cubicBezTo>
              </a:path>
              <a:path w="3077" h="3796">
                <a:moveTo>
                  <a:pt x="16495" y="9525"/>
                </a:moveTo>
                <a:cubicBezTo>
                  <a:pt x="16584" y="9570"/>
                  <a:pt x="16646" y="9380"/>
                  <a:pt x="16768" y="9401"/>
                </a:cubicBezTo>
                <a:cubicBezTo>
                  <a:pt x="16793" y="9426"/>
                  <a:pt x="16817" y="9450"/>
                  <a:pt x="16842" y="9475"/>
                </a:cubicBezTo>
                <a:cubicBezTo>
                  <a:pt x="16798" y="9739"/>
                  <a:pt x="16743" y="9815"/>
                  <a:pt x="16470" y="9872"/>
                </a:cubicBezTo>
                <a:cubicBezTo>
                  <a:pt x="16573" y="9787"/>
                  <a:pt x="16796" y="9737"/>
                  <a:pt x="16842" y="9947"/>
                </a:cubicBezTo>
                <a:cubicBezTo>
                  <a:pt x="16900" y="10209"/>
                  <a:pt x="16480" y="10335"/>
                  <a:pt x="16297" y="10244"/>
                </a:cubicBezTo>
                <a:cubicBezTo>
                  <a:pt x="16267" y="10156"/>
                  <a:pt x="16271" y="10122"/>
                  <a:pt x="16371" y="10096"/>
                </a:cubicBezTo>
              </a:path>
              <a:path w="3077" h="3796">
                <a:moveTo>
                  <a:pt x="18852" y="8235"/>
                </a:moveTo>
                <a:cubicBezTo>
                  <a:pt x="18731" y="8250"/>
                  <a:pt x="18315" y="8292"/>
                  <a:pt x="18479" y="8533"/>
                </a:cubicBezTo>
                <a:cubicBezTo>
                  <a:pt x="18569" y="8665"/>
                  <a:pt x="18732" y="8746"/>
                  <a:pt x="18827" y="8880"/>
                </a:cubicBezTo>
                <a:cubicBezTo>
                  <a:pt x="18655" y="8976"/>
                  <a:pt x="18641" y="8956"/>
                  <a:pt x="18455" y="8880"/>
                </a:cubicBezTo>
                <a:cubicBezTo>
                  <a:pt x="18565" y="8674"/>
                  <a:pt x="19016" y="8521"/>
                  <a:pt x="18876" y="8334"/>
                </a:cubicBezTo>
                <a:cubicBezTo>
                  <a:pt x="18851" y="8334"/>
                  <a:pt x="18827" y="8334"/>
                  <a:pt x="18802" y="8334"/>
                </a:cubicBezTo>
              </a:path>
              <a:path w="3077" h="3796">
                <a:moveTo>
                  <a:pt x="17760" y="10592"/>
                </a:moveTo>
                <a:cubicBezTo>
                  <a:pt x="17719" y="10646"/>
                  <a:pt x="17736" y="10646"/>
                  <a:pt x="17785" y="10616"/>
                </a:cubicBezTo>
                <a:cubicBezTo>
                  <a:pt x="17903" y="10545"/>
                  <a:pt x="17938" y="10521"/>
                  <a:pt x="18033" y="10542"/>
                </a:cubicBezTo>
                <a:cubicBezTo>
                  <a:pt x="18101" y="10816"/>
                  <a:pt x="18070" y="11073"/>
                  <a:pt x="17686" y="11063"/>
                </a:cubicBezTo>
                <a:cubicBezTo>
                  <a:pt x="17669" y="11046"/>
                  <a:pt x="17653" y="11030"/>
                  <a:pt x="17636" y="11013"/>
                </a:cubicBezTo>
                <a:cubicBezTo>
                  <a:pt x="17765" y="10922"/>
                  <a:pt x="17879" y="10860"/>
                  <a:pt x="18008" y="11013"/>
                </a:cubicBezTo>
                <a:cubicBezTo>
                  <a:pt x="18008" y="11021"/>
                  <a:pt x="18008" y="11030"/>
                  <a:pt x="18008" y="11038"/>
                </a:cubicBezTo>
              </a:path>
              <a:path w="3077" h="3796">
                <a:moveTo>
                  <a:pt x="18380" y="10666"/>
                </a:moveTo>
                <a:cubicBezTo>
                  <a:pt x="18326" y="10880"/>
                  <a:pt x="18481" y="10774"/>
                  <a:pt x="18604" y="10716"/>
                </a:cubicBezTo>
              </a:path>
              <a:path w="3077" h="3796">
                <a:moveTo>
                  <a:pt x="18653" y="10418"/>
                </a:moveTo>
                <a:cubicBezTo>
                  <a:pt x="18624" y="10625"/>
                  <a:pt x="18568" y="10831"/>
                  <a:pt x="18529" y="11038"/>
                </a:cubicBezTo>
              </a:path>
              <a:path w="3077" h="3796">
                <a:moveTo>
                  <a:pt x="17190" y="10864"/>
                </a:moveTo>
                <a:cubicBezTo>
                  <a:pt x="17387" y="10815"/>
                  <a:pt x="17452" y="10799"/>
                  <a:pt x="17587" y="10790"/>
                </a:cubicBezTo>
              </a:path>
              <a:path w="3077" h="3796">
                <a:moveTo>
                  <a:pt x="17264" y="11336"/>
                </a:moveTo>
                <a:cubicBezTo>
                  <a:pt x="17768" y="11292"/>
                  <a:pt x="18247" y="11222"/>
                  <a:pt x="18752" y="11261"/>
                </a:cubicBezTo>
              </a:path>
              <a:path w="3077" h="3796">
                <a:moveTo>
                  <a:pt x="18380" y="11509"/>
                </a:moveTo>
                <a:cubicBezTo>
                  <a:pt x="18496" y="11486"/>
                  <a:pt x="18530" y="11480"/>
                  <a:pt x="18604" y="11460"/>
                </a:cubicBezTo>
                <a:cubicBezTo>
                  <a:pt x="18492" y="11594"/>
                  <a:pt x="18302" y="11717"/>
                  <a:pt x="18281" y="11906"/>
                </a:cubicBezTo>
                <a:cubicBezTo>
                  <a:pt x="18298" y="11947"/>
                  <a:pt x="18314" y="11989"/>
                  <a:pt x="18331" y="12030"/>
                </a:cubicBezTo>
                <a:cubicBezTo>
                  <a:pt x="18507" y="11996"/>
                  <a:pt x="18883" y="11888"/>
                  <a:pt x="18529" y="11733"/>
                </a:cubicBezTo>
                <a:cubicBezTo>
                  <a:pt x="18488" y="11725"/>
                  <a:pt x="18446" y="11716"/>
                  <a:pt x="18405" y="117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81840" y="4599000"/>
            <a:ext cx="1098360" cy="1339920"/>
          </a:xfrm>
          <a:custGeom>
            <a:avLst/>
            <a:gdLst/>
            <a:ahLst/>
            <a:rect l="l" t="t" r="r" b="b"/>
            <a:pathLst>
              <a:path w="3052" h="3722">
                <a:moveTo>
                  <a:pt x="18132" y="13866"/>
                </a:moveTo>
                <a:cubicBezTo>
                  <a:pt x="18132" y="14073"/>
                  <a:pt x="18132" y="14279"/>
                  <a:pt x="18132" y="14486"/>
                </a:cubicBezTo>
              </a:path>
              <a:path w="3052" h="3722">
                <a:moveTo>
                  <a:pt x="18653" y="14015"/>
                </a:moveTo>
                <a:cubicBezTo>
                  <a:pt x="18653" y="13965"/>
                  <a:pt x="18653" y="13916"/>
                  <a:pt x="18653" y="13866"/>
                </a:cubicBezTo>
                <a:cubicBezTo>
                  <a:pt x="18578" y="13866"/>
                  <a:pt x="18566" y="13863"/>
                  <a:pt x="18504" y="13915"/>
                </a:cubicBezTo>
                <a:cubicBezTo>
                  <a:pt x="18475" y="13940"/>
                  <a:pt x="18441" y="13982"/>
                  <a:pt x="18430" y="14015"/>
                </a:cubicBezTo>
                <a:cubicBezTo>
                  <a:pt x="18418" y="14051"/>
                  <a:pt x="18428" y="14138"/>
                  <a:pt x="18455" y="14163"/>
                </a:cubicBezTo>
                <a:cubicBezTo>
                  <a:pt x="18495" y="14200"/>
                  <a:pt x="18579" y="14237"/>
                  <a:pt x="18628" y="14263"/>
                </a:cubicBezTo>
                <a:cubicBezTo>
                  <a:pt x="18671" y="14286"/>
                  <a:pt x="18757" y="14342"/>
                  <a:pt x="18777" y="14362"/>
                </a:cubicBezTo>
                <a:cubicBezTo>
                  <a:pt x="18808" y="14393"/>
                  <a:pt x="18843" y="14437"/>
                  <a:pt x="18852" y="14486"/>
                </a:cubicBezTo>
                <a:cubicBezTo>
                  <a:pt x="18860" y="14533"/>
                  <a:pt x="18858" y="14577"/>
                  <a:pt x="18827" y="14610"/>
                </a:cubicBezTo>
                <a:cubicBezTo>
                  <a:pt x="18780" y="14660"/>
                  <a:pt x="18722" y="14702"/>
                  <a:pt x="18653" y="14709"/>
                </a:cubicBezTo>
                <a:cubicBezTo>
                  <a:pt x="18582" y="14716"/>
                  <a:pt x="18582" y="14672"/>
                  <a:pt x="18579" y="14610"/>
                </a:cubicBezTo>
                <a:cubicBezTo>
                  <a:pt x="18573" y="14510"/>
                  <a:pt x="18552" y="14349"/>
                  <a:pt x="18604" y="14263"/>
                </a:cubicBezTo>
                <a:cubicBezTo>
                  <a:pt x="18617" y="14242"/>
                  <a:pt x="18645" y="14192"/>
                  <a:pt x="18653" y="14188"/>
                </a:cubicBezTo>
                <a:cubicBezTo>
                  <a:pt x="18688" y="14171"/>
                  <a:pt x="18678" y="14162"/>
                  <a:pt x="18678" y="14114"/>
                </a:cubicBezTo>
                <a:cubicBezTo>
                  <a:pt x="18678" y="14048"/>
                  <a:pt x="18678" y="13981"/>
                  <a:pt x="18678" y="13915"/>
                </a:cubicBezTo>
              </a:path>
              <a:path w="3052" h="3722">
                <a:moveTo>
                  <a:pt x="17760" y="14833"/>
                </a:moveTo>
                <a:cubicBezTo>
                  <a:pt x="17738" y="14789"/>
                  <a:pt x="17699" y="14737"/>
                  <a:pt x="17686" y="14684"/>
                </a:cubicBezTo>
                <a:cubicBezTo>
                  <a:pt x="17659" y="14571"/>
                  <a:pt x="17661" y="14454"/>
                  <a:pt x="17661" y="14337"/>
                </a:cubicBezTo>
                <a:cubicBezTo>
                  <a:pt x="17661" y="14159"/>
                  <a:pt x="17667" y="13989"/>
                  <a:pt x="17686" y="13816"/>
                </a:cubicBezTo>
                <a:cubicBezTo>
                  <a:pt x="17693" y="13749"/>
                  <a:pt x="17675" y="13747"/>
                  <a:pt x="17711" y="13717"/>
                </a:cubicBezTo>
                <a:cubicBezTo>
                  <a:pt x="17753" y="13682"/>
                  <a:pt x="17908" y="13675"/>
                  <a:pt x="17959" y="13667"/>
                </a:cubicBezTo>
                <a:cubicBezTo>
                  <a:pt x="18418" y="13595"/>
                  <a:pt x="18885" y="13526"/>
                  <a:pt x="19348" y="13494"/>
                </a:cubicBezTo>
                <a:cubicBezTo>
                  <a:pt x="19544" y="13480"/>
                  <a:pt x="19746" y="13494"/>
                  <a:pt x="19943" y="13494"/>
                </a:cubicBezTo>
              </a:path>
              <a:path w="3052" h="3722">
                <a:moveTo>
                  <a:pt x="16892" y="13940"/>
                </a:moveTo>
                <a:cubicBezTo>
                  <a:pt x="16892" y="14152"/>
                  <a:pt x="16836" y="14524"/>
                  <a:pt x="16917" y="14684"/>
                </a:cubicBezTo>
                <a:cubicBezTo>
                  <a:pt x="16938" y="14725"/>
                  <a:pt x="16983" y="14709"/>
                  <a:pt x="17041" y="14709"/>
                </a:cubicBezTo>
                <a:cubicBezTo>
                  <a:pt x="17117" y="14709"/>
                  <a:pt x="17229" y="14731"/>
                  <a:pt x="17289" y="14684"/>
                </a:cubicBezTo>
                <a:cubicBezTo>
                  <a:pt x="17332" y="14651"/>
                  <a:pt x="17338" y="14667"/>
                  <a:pt x="17338" y="14610"/>
                </a:cubicBezTo>
                <a:cubicBezTo>
                  <a:pt x="17338" y="14565"/>
                  <a:pt x="17361" y="14435"/>
                  <a:pt x="17314" y="14412"/>
                </a:cubicBezTo>
                <a:cubicBezTo>
                  <a:pt x="17273" y="14392"/>
                  <a:pt x="17285" y="14387"/>
                  <a:pt x="17214" y="14387"/>
                </a:cubicBezTo>
                <a:cubicBezTo>
                  <a:pt x="17185" y="14387"/>
                  <a:pt x="17169" y="14429"/>
                  <a:pt x="17165" y="14461"/>
                </a:cubicBezTo>
                <a:cubicBezTo>
                  <a:pt x="17159" y="14517"/>
                  <a:pt x="17165" y="14578"/>
                  <a:pt x="17165" y="14635"/>
                </a:cubicBezTo>
              </a:path>
              <a:path w="3052" h="3722">
                <a:moveTo>
                  <a:pt x="18504" y="12824"/>
                </a:moveTo>
                <a:cubicBezTo>
                  <a:pt x="18504" y="12799"/>
                  <a:pt x="18504" y="12791"/>
                  <a:pt x="18504" y="12774"/>
                </a:cubicBezTo>
                <a:cubicBezTo>
                  <a:pt x="18587" y="12774"/>
                  <a:pt x="18669" y="12774"/>
                  <a:pt x="18752" y="12774"/>
                </a:cubicBezTo>
                <a:cubicBezTo>
                  <a:pt x="18752" y="12823"/>
                  <a:pt x="18761" y="12860"/>
                  <a:pt x="18728" y="12898"/>
                </a:cubicBezTo>
                <a:cubicBezTo>
                  <a:pt x="18674" y="12961"/>
                  <a:pt x="18599" y="12984"/>
                  <a:pt x="18554" y="13022"/>
                </a:cubicBezTo>
                <a:cubicBezTo>
                  <a:pt x="18521" y="13050"/>
                  <a:pt x="18535" y="13047"/>
                  <a:pt x="18579" y="13047"/>
                </a:cubicBezTo>
                <a:cubicBezTo>
                  <a:pt x="18665" y="13047"/>
                  <a:pt x="18667" y="13060"/>
                  <a:pt x="18728" y="13097"/>
                </a:cubicBezTo>
                <a:cubicBezTo>
                  <a:pt x="18764" y="13119"/>
                  <a:pt x="18752" y="13167"/>
                  <a:pt x="18752" y="13221"/>
                </a:cubicBezTo>
                <a:cubicBezTo>
                  <a:pt x="18752" y="13265"/>
                  <a:pt x="18767" y="13315"/>
                  <a:pt x="18728" y="13345"/>
                </a:cubicBezTo>
                <a:cubicBezTo>
                  <a:pt x="18680" y="13382"/>
                  <a:pt x="18608" y="13415"/>
                  <a:pt x="18554" y="13444"/>
                </a:cubicBezTo>
                <a:cubicBezTo>
                  <a:pt x="18513" y="13464"/>
                  <a:pt x="18507" y="13473"/>
                  <a:pt x="18479" y="13469"/>
                </a:cubicBezTo>
              </a:path>
              <a:path w="3052" h="3722">
                <a:moveTo>
                  <a:pt x="18207" y="14982"/>
                </a:moveTo>
                <a:cubicBezTo>
                  <a:pt x="18207" y="15073"/>
                  <a:pt x="18207" y="15164"/>
                  <a:pt x="18207" y="15255"/>
                </a:cubicBezTo>
              </a:path>
              <a:path w="3052" h="3722">
                <a:moveTo>
                  <a:pt x="18653" y="14982"/>
                </a:moveTo>
                <a:cubicBezTo>
                  <a:pt x="18631" y="14948"/>
                  <a:pt x="18605" y="14957"/>
                  <a:pt x="18554" y="14957"/>
                </a:cubicBezTo>
                <a:cubicBezTo>
                  <a:pt x="18508" y="14957"/>
                  <a:pt x="18485" y="14955"/>
                  <a:pt x="18479" y="15007"/>
                </a:cubicBezTo>
                <a:cubicBezTo>
                  <a:pt x="18474" y="15051"/>
                  <a:pt x="18476" y="15074"/>
                  <a:pt x="18504" y="15106"/>
                </a:cubicBezTo>
                <a:cubicBezTo>
                  <a:pt x="18540" y="15147"/>
                  <a:pt x="18598" y="15195"/>
                  <a:pt x="18653" y="15205"/>
                </a:cubicBezTo>
                <a:cubicBezTo>
                  <a:pt x="18757" y="15223"/>
                  <a:pt x="18778" y="15260"/>
                  <a:pt x="18852" y="15304"/>
                </a:cubicBezTo>
                <a:cubicBezTo>
                  <a:pt x="18887" y="15325"/>
                  <a:pt x="18876" y="15355"/>
                  <a:pt x="18876" y="15404"/>
                </a:cubicBezTo>
                <a:cubicBezTo>
                  <a:pt x="18876" y="15462"/>
                  <a:pt x="18750" y="15480"/>
                  <a:pt x="18703" y="15503"/>
                </a:cubicBezTo>
                <a:cubicBezTo>
                  <a:pt x="18652" y="15527"/>
                  <a:pt x="18632" y="15528"/>
                  <a:pt x="18579" y="15528"/>
                </a:cubicBezTo>
                <a:cubicBezTo>
                  <a:pt x="18579" y="15363"/>
                  <a:pt x="18579" y="15197"/>
                  <a:pt x="18579" y="15032"/>
                </a:cubicBezTo>
              </a:path>
              <a:path w="3052" h="3722">
                <a:moveTo>
                  <a:pt x="17735" y="15156"/>
                </a:moveTo>
                <a:cubicBezTo>
                  <a:pt x="17768" y="15156"/>
                  <a:pt x="17802" y="15156"/>
                  <a:pt x="17835" y="15156"/>
                </a:cubicBezTo>
              </a:path>
              <a:path w="3052" h="3722">
                <a:moveTo>
                  <a:pt x="17983" y="15825"/>
                </a:moveTo>
                <a:cubicBezTo>
                  <a:pt x="18188" y="15825"/>
                  <a:pt x="18791" y="15913"/>
                  <a:pt x="18876" y="15801"/>
                </a:cubicBezTo>
                <a:cubicBezTo>
                  <a:pt x="18910" y="15756"/>
                  <a:pt x="18911" y="15796"/>
                  <a:pt x="18926" y="15751"/>
                </a:cubicBezTo>
              </a:path>
              <a:path w="3052" h="3722">
                <a:moveTo>
                  <a:pt x="18752" y="16173"/>
                </a:moveTo>
                <a:cubicBezTo>
                  <a:pt x="18711" y="16183"/>
                  <a:pt x="18689" y="16201"/>
                  <a:pt x="18653" y="16222"/>
                </a:cubicBezTo>
                <a:cubicBezTo>
                  <a:pt x="18626" y="16237"/>
                  <a:pt x="18568" y="16270"/>
                  <a:pt x="18554" y="16297"/>
                </a:cubicBezTo>
                <a:cubicBezTo>
                  <a:pt x="18534" y="16336"/>
                  <a:pt x="18529" y="16371"/>
                  <a:pt x="18529" y="16421"/>
                </a:cubicBezTo>
                <a:cubicBezTo>
                  <a:pt x="18529" y="16446"/>
                  <a:pt x="18529" y="16470"/>
                  <a:pt x="18529" y="16495"/>
                </a:cubicBezTo>
                <a:cubicBezTo>
                  <a:pt x="18597" y="16495"/>
                  <a:pt x="18697" y="16511"/>
                  <a:pt x="18728" y="16470"/>
                </a:cubicBezTo>
                <a:cubicBezTo>
                  <a:pt x="18757" y="16431"/>
                  <a:pt x="18732" y="16407"/>
                  <a:pt x="18752" y="16371"/>
                </a:cubicBezTo>
                <a:cubicBezTo>
                  <a:pt x="18776" y="16327"/>
                  <a:pt x="18777" y="16300"/>
                  <a:pt x="18777" y="16247"/>
                </a:cubicBezTo>
                <a:cubicBezTo>
                  <a:pt x="18777" y="16239"/>
                  <a:pt x="18777" y="16230"/>
                  <a:pt x="18777" y="16222"/>
                </a:cubicBezTo>
                <a:cubicBezTo>
                  <a:pt x="18703" y="16222"/>
                  <a:pt x="18628" y="16222"/>
                  <a:pt x="18554" y="162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86760" y="1616040"/>
            <a:ext cx="258480" cy="339840"/>
          </a:xfrm>
          <a:custGeom>
            <a:avLst/>
            <a:gdLst/>
            <a:ahLst/>
            <a:rect l="l" t="t" r="r" b="b"/>
            <a:pathLst>
              <a:path w="720" h="943">
                <a:moveTo>
                  <a:pt x="20241" y="5060"/>
                </a:moveTo>
                <a:cubicBezTo>
                  <a:pt x="20305" y="5164"/>
                  <a:pt x="20404" y="5315"/>
                  <a:pt x="20489" y="5432"/>
                </a:cubicBezTo>
                <a:cubicBezTo>
                  <a:pt x="20608" y="5132"/>
                  <a:pt x="20706" y="4836"/>
                  <a:pt x="20886" y="4564"/>
                </a:cubicBezTo>
                <a:cubicBezTo>
                  <a:pt x="20911" y="4539"/>
                  <a:pt x="20935" y="4515"/>
                  <a:pt x="20960" y="44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38160" y="3367080"/>
            <a:ext cx="411120" cy="534960"/>
          </a:xfrm>
          <a:custGeom>
            <a:avLst/>
            <a:gdLst/>
            <a:ahLst/>
            <a:rect l="l" t="t" r="r" b="b"/>
            <a:pathLst>
              <a:path w="1143" h="1490">
                <a:moveTo>
                  <a:pt x="3398" y="9475"/>
                </a:moveTo>
                <a:cubicBezTo>
                  <a:pt x="3444" y="9589"/>
                  <a:pt x="3560" y="9724"/>
                  <a:pt x="3646" y="9823"/>
                </a:cubicBezTo>
                <a:cubicBezTo>
                  <a:pt x="3704" y="9881"/>
                  <a:pt x="3713" y="9889"/>
                  <a:pt x="3746" y="9922"/>
                </a:cubicBezTo>
              </a:path>
              <a:path w="1143" h="1490">
                <a:moveTo>
                  <a:pt x="3721" y="9475"/>
                </a:moveTo>
                <a:cubicBezTo>
                  <a:pt x="3663" y="9649"/>
                  <a:pt x="3608" y="9823"/>
                  <a:pt x="3547" y="9996"/>
                </a:cubicBezTo>
                <a:cubicBezTo>
                  <a:pt x="3518" y="10077"/>
                  <a:pt x="3493" y="10071"/>
                  <a:pt x="3522" y="10071"/>
                </a:cubicBezTo>
              </a:path>
              <a:path w="1143" h="1490">
                <a:moveTo>
                  <a:pt x="3001" y="9351"/>
                </a:moveTo>
                <a:cubicBezTo>
                  <a:pt x="2963" y="9370"/>
                  <a:pt x="2947" y="9435"/>
                  <a:pt x="2927" y="9376"/>
                </a:cubicBezTo>
                <a:cubicBezTo>
                  <a:pt x="2960" y="9365"/>
                  <a:pt x="3032" y="9302"/>
                  <a:pt x="3051" y="9401"/>
                </a:cubicBezTo>
                <a:cubicBezTo>
                  <a:pt x="3070" y="9499"/>
                  <a:pt x="2990" y="9706"/>
                  <a:pt x="2927" y="9674"/>
                </a:cubicBezTo>
                <a:cubicBezTo>
                  <a:pt x="3015" y="9656"/>
                  <a:pt x="3124" y="9631"/>
                  <a:pt x="3175" y="9748"/>
                </a:cubicBezTo>
                <a:cubicBezTo>
                  <a:pt x="3242" y="9902"/>
                  <a:pt x="3022" y="9995"/>
                  <a:pt x="2927" y="10046"/>
                </a:cubicBezTo>
                <a:cubicBezTo>
                  <a:pt x="2887" y="10066"/>
                  <a:pt x="2880" y="10075"/>
                  <a:pt x="2853" y="10071"/>
                </a:cubicBezTo>
              </a:path>
              <a:path w="1143" h="1490">
                <a:moveTo>
                  <a:pt x="2604" y="10170"/>
                </a:moveTo>
                <a:cubicBezTo>
                  <a:pt x="2698" y="10189"/>
                  <a:pt x="2802" y="10214"/>
                  <a:pt x="2902" y="10220"/>
                </a:cubicBezTo>
                <a:cubicBezTo>
                  <a:pt x="3000" y="10226"/>
                  <a:pt x="3101" y="10220"/>
                  <a:pt x="3200" y="10220"/>
                </a:cubicBezTo>
              </a:path>
              <a:path w="1143" h="1490">
                <a:moveTo>
                  <a:pt x="2952" y="10368"/>
                </a:moveTo>
                <a:cubicBezTo>
                  <a:pt x="2938" y="10509"/>
                  <a:pt x="2909" y="10648"/>
                  <a:pt x="2902" y="10790"/>
                </a:cubicBezTo>
                <a:cubicBezTo>
                  <a:pt x="2902" y="10815"/>
                  <a:pt x="2902" y="10823"/>
                  <a:pt x="2902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91000" y="3259080"/>
            <a:ext cx="304920" cy="295200"/>
          </a:xfrm>
          <a:custGeom>
            <a:avLst/>
            <a:gdLst/>
            <a:ahLst/>
            <a:rect l="l" t="t" r="r" b="b"/>
            <a:pathLst>
              <a:path w="844" h="819">
                <a:moveTo>
                  <a:pt x="12526" y="9302"/>
                </a:moveTo>
                <a:cubicBezTo>
                  <a:pt x="12565" y="9442"/>
                  <a:pt x="12601" y="9633"/>
                  <a:pt x="12700" y="9748"/>
                </a:cubicBezTo>
                <a:cubicBezTo>
                  <a:pt x="12741" y="9768"/>
                  <a:pt x="12757" y="9766"/>
                  <a:pt x="12750" y="9798"/>
                </a:cubicBezTo>
              </a:path>
              <a:path w="844" h="819">
                <a:moveTo>
                  <a:pt x="12725" y="9351"/>
                </a:moveTo>
                <a:cubicBezTo>
                  <a:pt x="12643" y="9526"/>
                  <a:pt x="12557" y="9697"/>
                  <a:pt x="12477" y="9872"/>
                </a:cubicBezTo>
              </a:path>
              <a:path w="844" h="819">
                <a:moveTo>
                  <a:pt x="13022" y="9153"/>
                </a:moveTo>
                <a:cubicBezTo>
                  <a:pt x="13169" y="9072"/>
                  <a:pt x="13180" y="9043"/>
                  <a:pt x="13320" y="9128"/>
                </a:cubicBezTo>
                <a:cubicBezTo>
                  <a:pt x="13256" y="9293"/>
                  <a:pt x="13202" y="9383"/>
                  <a:pt x="13047" y="9475"/>
                </a:cubicBezTo>
                <a:cubicBezTo>
                  <a:pt x="13108" y="9395"/>
                  <a:pt x="13214" y="9322"/>
                  <a:pt x="13295" y="9451"/>
                </a:cubicBezTo>
                <a:cubicBezTo>
                  <a:pt x="13382" y="9589"/>
                  <a:pt x="13240" y="9767"/>
                  <a:pt x="13097" y="9773"/>
                </a:cubicBezTo>
                <a:cubicBezTo>
                  <a:pt x="13056" y="9753"/>
                  <a:pt x="13050" y="9744"/>
                  <a:pt x="13022" y="97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14720" y="3714840"/>
            <a:ext cx="1724040" cy="741240"/>
          </a:xfrm>
          <a:custGeom>
            <a:avLst/>
            <a:gdLst/>
            <a:ahLst/>
            <a:rect l="l" t="t" r="r" b="b"/>
            <a:pathLst>
              <a:path w="4788" h="2060">
                <a:moveTo>
                  <a:pt x="6276" y="11261"/>
                </a:moveTo>
                <a:cubicBezTo>
                  <a:pt x="6294" y="11279"/>
                  <a:pt x="6454" y="11240"/>
                  <a:pt x="6524" y="11237"/>
                </a:cubicBezTo>
                <a:cubicBezTo>
                  <a:pt x="6675" y="11231"/>
                  <a:pt x="6508" y="11404"/>
                  <a:pt x="6474" y="11435"/>
                </a:cubicBezTo>
                <a:cubicBezTo>
                  <a:pt x="6436" y="11491"/>
                  <a:pt x="6550" y="11414"/>
                  <a:pt x="6623" y="11460"/>
                </a:cubicBezTo>
                <a:cubicBezTo>
                  <a:pt x="6772" y="11553"/>
                  <a:pt x="6519" y="11666"/>
                  <a:pt x="6449" y="11658"/>
                </a:cubicBezTo>
                <a:cubicBezTo>
                  <a:pt x="6339" y="11614"/>
                  <a:pt x="6309" y="11606"/>
                  <a:pt x="6251" y="11559"/>
                </a:cubicBezTo>
              </a:path>
              <a:path w="4788" h="2060">
                <a:moveTo>
                  <a:pt x="6251" y="11063"/>
                </a:moveTo>
                <a:cubicBezTo>
                  <a:pt x="6265" y="11021"/>
                  <a:pt x="6478" y="11016"/>
                  <a:pt x="6524" y="11013"/>
                </a:cubicBezTo>
                <a:cubicBezTo>
                  <a:pt x="6588" y="11009"/>
                  <a:pt x="6657" y="11013"/>
                  <a:pt x="6722" y="11013"/>
                </a:cubicBezTo>
              </a:path>
              <a:path w="4788" h="2060">
                <a:moveTo>
                  <a:pt x="6251" y="10517"/>
                </a:moveTo>
                <a:cubicBezTo>
                  <a:pt x="6211" y="10527"/>
                  <a:pt x="6192" y="10557"/>
                  <a:pt x="6152" y="10567"/>
                </a:cubicBezTo>
                <a:cubicBezTo>
                  <a:pt x="6193" y="10588"/>
                  <a:pt x="6226" y="10555"/>
                  <a:pt x="6276" y="10517"/>
                </a:cubicBezTo>
                <a:cubicBezTo>
                  <a:pt x="6304" y="10488"/>
                  <a:pt x="6317" y="10480"/>
                  <a:pt x="6350" y="10492"/>
                </a:cubicBezTo>
                <a:cubicBezTo>
                  <a:pt x="6407" y="10577"/>
                  <a:pt x="6416" y="10612"/>
                  <a:pt x="6325" y="10666"/>
                </a:cubicBezTo>
                <a:cubicBezTo>
                  <a:pt x="6282" y="10688"/>
                  <a:pt x="6261" y="10701"/>
                  <a:pt x="6300" y="10666"/>
                </a:cubicBezTo>
                <a:cubicBezTo>
                  <a:pt x="6398" y="10679"/>
                  <a:pt x="6609" y="10734"/>
                  <a:pt x="6424" y="10840"/>
                </a:cubicBezTo>
                <a:cubicBezTo>
                  <a:pt x="6369" y="10872"/>
                  <a:pt x="6178" y="10946"/>
                  <a:pt x="6152" y="10864"/>
                </a:cubicBezTo>
              </a:path>
              <a:path w="4788" h="2060">
                <a:moveTo>
                  <a:pt x="6772" y="10319"/>
                </a:moveTo>
                <a:cubicBezTo>
                  <a:pt x="6772" y="10474"/>
                  <a:pt x="6734" y="10591"/>
                  <a:pt x="6697" y="10740"/>
                </a:cubicBezTo>
                <a:cubicBezTo>
                  <a:pt x="6679" y="10831"/>
                  <a:pt x="6670" y="10838"/>
                  <a:pt x="6672" y="10889"/>
                </a:cubicBezTo>
                <a:cubicBezTo>
                  <a:pt x="6766" y="10911"/>
                  <a:pt x="6847" y="10914"/>
                  <a:pt x="6945" y="10914"/>
                </a:cubicBezTo>
              </a:path>
              <a:path w="4788" h="2060">
                <a:moveTo>
                  <a:pt x="6573" y="10666"/>
                </a:moveTo>
                <a:cubicBezTo>
                  <a:pt x="6666" y="10660"/>
                  <a:pt x="6753" y="10641"/>
                  <a:pt x="6846" y="10641"/>
                </a:cubicBezTo>
              </a:path>
              <a:path w="4788" h="2060">
                <a:moveTo>
                  <a:pt x="6276" y="10517"/>
                </a:moveTo>
                <a:cubicBezTo>
                  <a:pt x="6276" y="10492"/>
                  <a:pt x="6276" y="10468"/>
                  <a:pt x="6276" y="10443"/>
                </a:cubicBezTo>
                <a:cubicBezTo>
                  <a:pt x="6259" y="10451"/>
                  <a:pt x="6311" y="10729"/>
                  <a:pt x="6325" y="10790"/>
                </a:cubicBezTo>
                <a:cubicBezTo>
                  <a:pt x="6370" y="10989"/>
                  <a:pt x="6429" y="11185"/>
                  <a:pt x="6474" y="11385"/>
                </a:cubicBezTo>
                <a:cubicBezTo>
                  <a:pt x="6504" y="11517"/>
                  <a:pt x="6502" y="11477"/>
                  <a:pt x="6474" y="11534"/>
                </a:cubicBezTo>
                <a:cubicBezTo>
                  <a:pt x="6455" y="11572"/>
                  <a:pt x="6496" y="11643"/>
                  <a:pt x="6499" y="11683"/>
                </a:cubicBezTo>
                <a:cubicBezTo>
                  <a:pt x="6499" y="11691"/>
                  <a:pt x="6499" y="11700"/>
                  <a:pt x="6499" y="11708"/>
                </a:cubicBezTo>
              </a:path>
              <a:path w="4788" h="2060">
                <a:moveTo>
                  <a:pt x="6970" y="11857"/>
                </a:moveTo>
                <a:cubicBezTo>
                  <a:pt x="6970" y="11781"/>
                  <a:pt x="6956" y="11954"/>
                  <a:pt x="6945" y="12030"/>
                </a:cubicBezTo>
                <a:cubicBezTo>
                  <a:pt x="6928" y="12149"/>
                  <a:pt x="6921" y="12258"/>
                  <a:pt x="6921" y="12378"/>
                </a:cubicBezTo>
                <a:cubicBezTo>
                  <a:pt x="7030" y="12369"/>
                  <a:pt x="7118" y="12348"/>
                  <a:pt x="7218" y="12303"/>
                </a:cubicBezTo>
              </a:path>
              <a:path w="4788" h="2060">
                <a:moveTo>
                  <a:pt x="6796" y="12129"/>
                </a:moveTo>
                <a:cubicBezTo>
                  <a:pt x="6904" y="12129"/>
                  <a:pt x="7011" y="12129"/>
                  <a:pt x="7119" y="12129"/>
                </a:cubicBezTo>
              </a:path>
              <a:path w="4788" h="2060">
                <a:moveTo>
                  <a:pt x="7764" y="11931"/>
                </a:moveTo>
                <a:cubicBezTo>
                  <a:pt x="7843" y="11931"/>
                  <a:pt x="7910" y="11950"/>
                  <a:pt x="7987" y="11956"/>
                </a:cubicBezTo>
                <a:cubicBezTo>
                  <a:pt x="7995" y="11956"/>
                  <a:pt x="8004" y="11956"/>
                  <a:pt x="8012" y="11956"/>
                </a:cubicBezTo>
              </a:path>
              <a:path w="4788" h="2060">
                <a:moveTo>
                  <a:pt x="7764" y="12105"/>
                </a:moveTo>
                <a:cubicBezTo>
                  <a:pt x="7847" y="12105"/>
                  <a:pt x="7929" y="12105"/>
                  <a:pt x="8012" y="12105"/>
                </a:cubicBezTo>
              </a:path>
              <a:path w="4788" h="2060">
                <a:moveTo>
                  <a:pt x="8582" y="11658"/>
                </a:moveTo>
                <a:cubicBezTo>
                  <a:pt x="8539" y="11725"/>
                  <a:pt x="8516" y="11718"/>
                  <a:pt x="8582" y="11658"/>
                </a:cubicBezTo>
                <a:cubicBezTo>
                  <a:pt x="8607" y="11633"/>
                  <a:pt x="8632" y="11609"/>
                  <a:pt x="8657" y="11584"/>
                </a:cubicBezTo>
                <a:cubicBezTo>
                  <a:pt x="8782" y="11771"/>
                  <a:pt x="8785" y="11984"/>
                  <a:pt x="8533" y="12105"/>
                </a:cubicBezTo>
                <a:cubicBezTo>
                  <a:pt x="8383" y="12126"/>
                  <a:pt x="8349" y="12139"/>
                  <a:pt x="8260" y="12105"/>
                </a:cubicBezTo>
                <a:cubicBezTo>
                  <a:pt x="8312" y="11947"/>
                  <a:pt x="8466" y="11903"/>
                  <a:pt x="8607" y="12030"/>
                </a:cubicBezTo>
                <a:cubicBezTo>
                  <a:pt x="8648" y="12111"/>
                  <a:pt x="8665" y="12124"/>
                  <a:pt x="8657" y="12179"/>
                </a:cubicBezTo>
              </a:path>
              <a:path w="4788" h="2060">
                <a:moveTo>
                  <a:pt x="9029" y="11633"/>
                </a:moveTo>
                <a:cubicBezTo>
                  <a:pt x="9017" y="11676"/>
                  <a:pt x="8902" y="11882"/>
                  <a:pt x="8954" y="11931"/>
                </a:cubicBezTo>
                <a:cubicBezTo>
                  <a:pt x="9080" y="12049"/>
                  <a:pt x="9356" y="11872"/>
                  <a:pt x="9451" y="11807"/>
                </a:cubicBezTo>
              </a:path>
              <a:path w="4788" h="2060">
                <a:moveTo>
                  <a:pt x="9302" y="11509"/>
                </a:moveTo>
                <a:cubicBezTo>
                  <a:pt x="9225" y="11746"/>
                  <a:pt x="9136" y="11986"/>
                  <a:pt x="9079" y="12229"/>
                </a:cubicBezTo>
                <a:cubicBezTo>
                  <a:pt x="9079" y="12237"/>
                  <a:pt x="9079" y="12246"/>
                  <a:pt x="9079" y="12254"/>
                </a:cubicBezTo>
              </a:path>
              <a:path w="4788" h="2060">
                <a:moveTo>
                  <a:pt x="9872" y="11857"/>
                </a:moveTo>
                <a:cubicBezTo>
                  <a:pt x="9996" y="11935"/>
                  <a:pt x="10007" y="11999"/>
                  <a:pt x="10021" y="12154"/>
                </a:cubicBezTo>
                <a:cubicBezTo>
                  <a:pt x="10334" y="11904"/>
                  <a:pt x="10623" y="11614"/>
                  <a:pt x="10939" y="113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87280" y="5089680"/>
            <a:ext cx="393840" cy="519120"/>
          </a:xfrm>
          <a:custGeom>
            <a:avLst/>
            <a:gdLst/>
            <a:ahLst/>
            <a:rect l="l" t="t" r="r" b="b"/>
            <a:pathLst>
              <a:path w="1092" h="1439">
                <a:moveTo>
                  <a:pt x="4192" y="14560"/>
                </a:moveTo>
                <a:cubicBezTo>
                  <a:pt x="4192" y="14614"/>
                  <a:pt x="4193" y="14633"/>
                  <a:pt x="4217" y="14684"/>
                </a:cubicBezTo>
                <a:cubicBezTo>
                  <a:pt x="4248" y="14749"/>
                  <a:pt x="4281" y="14764"/>
                  <a:pt x="4291" y="14833"/>
                </a:cubicBezTo>
                <a:cubicBezTo>
                  <a:pt x="4336" y="14856"/>
                  <a:pt x="4341" y="14878"/>
                  <a:pt x="4341" y="14932"/>
                </a:cubicBezTo>
              </a:path>
              <a:path w="1092" h="1439">
                <a:moveTo>
                  <a:pt x="4192" y="14833"/>
                </a:moveTo>
                <a:cubicBezTo>
                  <a:pt x="4192" y="14755"/>
                  <a:pt x="4218" y="14698"/>
                  <a:pt x="4266" y="14635"/>
                </a:cubicBezTo>
                <a:cubicBezTo>
                  <a:pt x="4294" y="14598"/>
                  <a:pt x="4371" y="14555"/>
                  <a:pt x="4390" y="14511"/>
                </a:cubicBezTo>
                <a:cubicBezTo>
                  <a:pt x="4390" y="14503"/>
                  <a:pt x="4390" y="14494"/>
                  <a:pt x="4390" y="14486"/>
                </a:cubicBezTo>
              </a:path>
              <a:path w="1092" h="1439">
                <a:moveTo>
                  <a:pt x="3547" y="14139"/>
                </a:moveTo>
                <a:cubicBezTo>
                  <a:pt x="3525" y="14175"/>
                  <a:pt x="3502" y="14220"/>
                  <a:pt x="3497" y="14263"/>
                </a:cubicBezTo>
                <a:cubicBezTo>
                  <a:pt x="3489" y="14333"/>
                  <a:pt x="3484" y="14395"/>
                  <a:pt x="3473" y="14461"/>
                </a:cubicBezTo>
                <a:cubicBezTo>
                  <a:pt x="3451" y="14592"/>
                  <a:pt x="3473" y="14750"/>
                  <a:pt x="3473" y="14883"/>
                </a:cubicBezTo>
                <a:cubicBezTo>
                  <a:pt x="3558" y="14883"/>
                  <a:pt x="3582" y="14893"/>
                  <a:pt x="3646" y="14833"/>
                </a:cubicBezTo>
                <a:cubicBezTo>
                  <a:pt x="3695" y="14788"/>
                  <a:pt x="3739" y="14752"/>
                  <a:pt x="3746" y="14684"/>
                </a:cubicBezTo>
                <a:cubicBezTo>
                  <a:pt x="3750" y="14645"/>
                  <a:pt x="3770" y="14665"/>
                  <a:pt x="3770" y="14610"/>
                </a:cubicBezTo>
                <a:cubicBezTo>
                  <a:pt x="3770" y="14570"/>
                  <a:pt x="3795" y="14556"/>
                  <a:pt x="3795" y="14511"/>
                </a:cubicBezTo>
                <a:cubicBezTo>
                  <a:pt x="3761" y="14511"/>
                  <a:pt x="3715" y="14498"/>
                  <a:pt x="3696" y="14536"/>
                </a:cubicBezTo>
                <a:cubicBezTo>
                  <a:pt x="3680" y="14568"/>
                  <a:pt x="3671" y="14560"/>
                  <a:pt x="3671" y="14610"/>
                </a:cubicBezTo>
                <a:cubicBezTo>
                  <a:pt x="3671" y="14684"/>
                  <a:pt x="3671" y="14759"/>
                  <a:pt x="3671" y="14833"/>
                </a:cubicBezTo>
              </a:path>
              <a:path w="1092" h="1439">
                <a:moveTo>
                  <a:pt x="3299" y="15032"/>
                </a:moveTo>
                <a:cubicBezTo>
                  <a:pt x="3425" y="15032"/>
                  <a:pt x="3560" y="15044"/>
                  <a:pt x="3671" y="15007"/>
                </a:cubicBezTo>
                <a:cubicBezTo>
                  <a:pt x="3717" y="14992"/>
                  <a:pt x="3796" y="15007"/>
                  <a:pt x="3845" y="15007"/>
                </a:cubicBezTo>
              </a:path>
              <a:path w="1092" h="1439">
                <a:moveTo>
                  <a:pt x="3621" y="15230"/>
                </a:moveTo>
                <a:cubicBezTo>
                  <a:pt x="3621" y="15346"/>
                  <a:pt x="3621" y="15461"/>
                  <a:pt x="3621" y="155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68920" y="5072040"/>
            <a:ext cx="303120" cy="322200"/>
          </a:xfrm>
          <a:custGeom>
            <a:avLst/>
            <a:gdLst/>
            <a:ahLst/>
            <a:rect l="l" t="t" r="r" b="b"/>
            <a:pathLst>
              <a:path w="844" h="894">
                <a:moveTo>
                  <a:pt x="13246" y="14387"/>
                </a:moveTo>
                <a:cubicBezTo>
                  <a:pt x="13246" y="14379"/>
                  <a:pt x="13246" y="14370"/>
                  <a:pt x="13246" y="14362"/>
                </a:cubicBezTo>
                <a:cubicBezTo>
                  <a:pt x="13305" y="14377"/>
                  <a:pt x="13308" y="14413"/>
                  <a:pt x="13345" y="14461"/>
                </a:cubicBezTo>
                <a:cubicBezTo>
                  <a:pt x="13384" y="14512"/>
                  <a:pt x="13385" y="14493"/>
                  <a:pt x="13395" y="14560"/>
                </a:cubicBezTo>
                <a:cubicBezTo>
                  <a:pt x="13406" y="14567"/>
                  <a:pt x="13456" y="14609"/>
                  <a:pt x="13469" y="14635"/>
                </a:cubicBezTo>
                <a:cubicBezTo>
                  <a:pt x="13469" y="14660"/>
                  <a:pt x="13469" y="14668"/>
                  <a:pt x="13469" y="14684"/>
                </a:cubicBezTo>
              </a:path>
              <a:path w="844" h="894">
                <a:moveTo>
                  <a:pt x="13469" y="14337"/>
                </a:moveTo>
                <a:cubicBezTo>
                  <a:pt x="13450" y="14433"/>
                  <a:pt x="13378" y="14514"/>
                  <a:pt x="13345" y="14610"/>
                </a:cubicBezTo>
                <a:cubicBezTo>
                  <a:pt x="13306" y="14724"/>
                  <a:pt x="13285" y="14849"/>
                  <a:pt x="13246" y="14957"/>
                </a:cubicBezTo>
                <a:cubicBezTo>
                  <a:pt x="13246" y="14965"/>
                  <a:pt x="13246" y="14974"/>
                  <a:pt x="13246" y="14982"/>
                </a:cubicBezTo>
              </a:path>
              <a:path w="844" h="894">
                <a:moveTo>
                  <a:pt x="13816" y="14089"/>
                </a:moveTo>
                <a:cubicBezTo>
                  <a:pt x="13807" y="14207"/>
                  <a:pt x="13786" y="14324"/>
                  <a:pt x="13742" y="14436"/>
                </a:cubicBezTo>
                <a:cubicBezTo>
                  <a:pt x="13720" y="14492"/>
                  <a:pt x="13717" y="14526"/>
                  <a:pt x="13717" y="14585"/>
                </a:cubicBezTo>
                <a:cubicBezTo>
                  <a:pt x="13717" y="14638"/>
                  <a:pt x="13693" y="14751"/>
                  <a:pt x="13742" y="14784"/>
                </a:cubicBezTo>
                <a:cubicBezTo>
                  <a:pt x="13782" y="14811"/>
                  <a:pt x="13798" y="14844"/>
                  <a:pt x="13841" y="14858"/>
                </a:cubicBezTo>
                <a:cubicBezTo>
                  <a:pt x="13879" y="14871"/>
                  <a:pt x="13862" y="14883"/>
                  <a:pt x="13915" y="14883"/>
                </a:cubicBezTo>
                <a:cubicBezTo>
                  <a:pt x="13974" y="14883"/>
                  <a:pt x="14013" y="14892"/>
                  <a:pt x="14039" y="14858"/>
                </a:cubicBezTo>
                <a:cubicBezTo>
                  <a:pt x="14072" y="14814"/>
                  <a:pt x="14089" y="14816"/>
                  <a:pt x="14089" y="14759"/>
                </a:cubicBezTo>
                <a:cubicBezTo>
                  <a:pt x="14089" y="14700"/>
                  <a:pt x="14098" y="14661"/>
                  <a:pt x="14064" y="14635"/>
                </a:cubicBezTo>
                <a:cubicBezTo>
                  <a:pt x="14026" y="14606"/>
                  <a:pt x="14013" y="14610"/>
                  <a:pt x="13965" y="14610"/>
                </a:cubicBezTo>
                <a:cubicBezTo>
                  <a:pt x="13928" y="14610"/>
                  <a:pt x="13919" y="14670"/>
                  <a:pt x="13915" y="14709"/>
                </a:cubicBezTo>
                <a:cubicBezTo>
                  <a:pt x="13912" y="14741"/>
                  <a:pt x="13915" y="14776"/>
                  <a:pt x="13915" y="148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13080" y="5830920"/>
            <a:ext cx="241200" cy="162000"/>
          </a:xfrm>
          <a:custGeom>
            <a:avLst/>
            <a:gdLst/>
            <a:ahLst/>
            <a:rect l="l" t="t" r="r" b="b"/>
            <a:pathLst>
              <a:path w="670" h="448">
                <a:moveTo>
                  <a:pt x="9203" y="16272"/>
                </a:moveTo>
                <a:cubicBezTo>
                  <a:pt x="9220" y="16219"/>
                  <a:pt x="9272" y="16262"/>
                  <a:pt x="9327" y="16247"/>
                </a:cubicBezTo>
                <a:cubicBezTo>
                  <a:pt x="9429" y="16218"/>
                  <a:pt x="9540" y="16202"/>
                  <a:pt x="9649" y="16197"/>
                </a:cubicBezTo>
                <a:cubicBezTo>
                  <a:pt x="9723" y="16194"/>
                  <a:pt x="9798" y="16197"/>
                  <a:pt x="9872" y="16197"/>
                </a:cubicBezTo>
              </a:path>
              <a:path w="670" h="448">
                <a:moveTo>
                  <a:pt x="9252" y="16644"/>
                </a:moveTo>
                <a:cubicBezTo>
                  <a:pt x="9330" y="16582"/>
                  <a:pt x="9373" y="16573"/>
                  <a:pt x="9475" y="16570"/>
                </a:cubicBezTo>
                <a:cubicBezTo>
                  <a:pt x="9574" y="16567"/>
                  <a:pt x="9674" y="16570"/>
                  <a:pt x="9773" y="165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02080" y="5776920"/>
            <a:ext cx="214200" cy="223920"/>
          </a:xfrm>
          <a:custGeom>
            <a:avLst/>
            <a:gdLst/>
            <a:ahLst/>
            <a:rect l="l" t="t" r="r" b="b"/>
            <a:pathLst>
              <a:path w="596" h="621">
                <a:moveTo>
                  <a:pt x="12229" y="16049"/>
                </a:moveTo>
                <a:cubicBezTo>
                  <a:pt x="12229" y="16239"/>
                  <a:pt x="12229" y="16429"/>
                  <a:pt x="12229" y="16619"/>
                </a:cubicBezTo>
              </a:path>
              <a:path w="596" h="621">
                <a:moveTo>
                  <a:pt x="12675" y="16123"/>
                </a:moveTo>
                <a:cubicBezTo>
                  <a:pt x="12675" y="16098"/>
                  <a:pt x="12675" y="16090"/>
                  <a:pt x="12675" y="16073"/>
                </a:cubicBezTo>
                <a:cubicBezTo>
                  <a:pt x="12609" y="16073"/>
                  <a:pt x="12543" y="16073"/>
                  <a:pt x="12477" y="16073"/>
                </a:cubicBezTo>
                <a:cubicBezTo>
                  <a:pt x="12477" y="16138"/>
                  <a:pt x="12460" y="16223"/>
                  <a:pt x="12502" y="16272"/>
                </a:cubicBezTo>
                <a:cubicBezTo>
                  <a:pt x="12545" y="16322"/>
                  <a:pt x="12599" y="16312"/>
                  <a:pt x="12650" y="16346"/>
                </a:cubicBezTo>
                <a:cubicBezTo>
                  <a:pt x="12693" y="16375"/>
                  <a:pt x="12699" y="16383"/>
                  <a:pt x="12725" y="16421"/>
                </a:cubicBezTo>
                <a:cubicBezTo>
                  <a:pt x="12754" y="16464"/>
                  <a:pt x="12750" y="16493"/>
                  <a:pt x="12750" y="16545"/>
                </a:cubicBezTo>
                <a:cubicBezTo>
                  <a:pt x="12750" y="16583"/>
                  <a:pt x="12766" y="16649"/>
                  <a:pt x="12725" y="16669"/>
                </a:cubicBezTo>
                <a:cubicBezTo>
                  <a:pt x="12710" y="16676"/>
                  <a:pt x="12667" y="16669"/>
                  <a:pt x="12650" y="16669"/>
                </a:cubicBezTo>
                <a:cubicBezTo>
                  <a:pt x="12650" y="16588"/>
                  <a:pt x="12625" y="16465"/>
                  <a:pt x="12675" y="16396"/>
                </a:cubicBezTo>
                <a:cubicBezTo>
                  <a:pt x="12697" y="16366"/>
                  <a:pt x="12786" y="16316"/>
                  <a:pt x="12799" y="16297"/>
                </a:cubicBezTo>
                <a:cubicBezTo>
                  <a:pt x="12810" y="16281"/>
                  <a:pt x="12823" y="16234"/>
                  <a:pt x="12824" y="16222"/>
                </a:cubicBezTo>
                <a:cubicBezTo>
                  <a:pt x="12831" y="16169"/>
                  <a:pt x="12827" y="16144"/>
                  <a:pt x="12799" y="16123"/>
                </a:cubicBezTo>
                <a:cubicBezTo>
                  <a:pt x="12762" y="16095"/>
                  <a:pt x="12760" y="16053"/>
                  <a:pt x="12725" y="16049"/>
                </a:cubicBezTo>
                <a:cubicBezTo>
                  <a:pt x="12693" y="16045"/>
                  <a:pt x="12658" y="16049"/>
                  <a:pt x="12626" y="160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86040" y="4786200"/>
            <a:ext cx="223920" cy="625680"/>
          </a:xfrm>
          <a:custGeom>
            <a:avLst/>
            <a:gdLst/>
            <a:ahLst/>
            <a:rect l="l" t="t" r="r" b="b"/>
            <a:pathLst>
              <a:path w="621" h="1738">
                <a:moveTo>
                  <a:pt x="7938" y="13370"/>
                </a:moveTo>
                <a:cubicBezTo>
                  <a:pt x="7880" y="13389"/>
                  <a:pt x="7899" y="13482"/>
                  <a:pt x="7888" y="13543"/>
                </a:cubicBezTo>
                <a:cubicBezTo>
                  <a:pt x="7871" y="13631"/>
                  <a:pt x="7840" y="13734"/>
                  <a:pt x="7813" y="13816"/>
                </a:cubicBezTo>
                <a:cubicBezTo>
                  <a:pt x="7794" y="13875"/>
                  <a:pt x="7770" y="13926"/>
                  <a:pt x="7764" y="13990"/>
                </a:cubicBezTo>
                <a:cubicBezTo>
                  <a:pt x="7762" y="14014"/>
                  <a:pt x="7764" y="14040"/>
                  <a:pt x="7764" y="14064"/>
                </a:cubicBezTo>
                <a:cubicBezTo>
                  <a:pt x="7840" y="14064"/>
                  <a:pt x="7977" y="14084"/>
                  <a:pt x="8012" y="14039"/>
                </a:cubicBezTo>
                <a:cubicBezTo>
                  <a:pt x="8046" y="13995"/>
                  <a:pt x="8062" y="13997"/>
                  <a:pt x="8062" y="13940"/>
                </a:cubicBezTo>
                <a:cubicBezTo>
                  <a:pt x="8062" y="13907"/>
                  <a:pt x="8062" y="13874"/>
                  <a:pt x="8062" y="13841"/>
                </a:cubicBezTo>
                <a:cubicBezTo>
                  <a:pt x="7997" y="13841"/>
                  <a:pt x="7917" y="13827"/>
                  <a:pt x="7888" y="13866"/>
                </a:cubicBezTo>
                <a:cubicBezTo>
                  <a:pt x="7859" y="13904"/>
                  <a:pt x="7863" y="13917"/>
                  <a:pt x="7863" y="13965"/>
                </a:cubicBezTo>
                <a:cubicBezTo>
                  <a:pt x="7863" y="13990"/>
                  <a:pt x="7863" y="13998"/>
                  <a:pt x="7863" y="14015"/>
                </a:cubicBezTo>
              </a:path>
              <a:path w="621" h="1738">
                <a:moveTo>
                  <a:pt x="8235" y="13841"/>
                </a:moveTo>
                <a:cubicBezTo>
                  <a:pt x="8290" y="13877"/>
                  <a:pt x="8246" y="13987"/>
                  <a:pt x="8260" y="14064"/>
                </a:cubicBezTo>
                <a:cubicBezTo>
                  <a:pt x="8273" y="14137"/>
                  <a:pt x="8285" y="14187"/>
                  <a:pt x="8285" y="14263"/>
                </a:cubicBezTo>
                <a:cubicBezTo>
                  <a:pt x="8285" y="14318"/>
                  <a:pt x="8297" y="14371"/>
                  <a:pt x="8260" y="14412"/>
                </a:cubicBezTo>
                <a:cubicBezTo>
                  <a:pt x="8230" y="14445"/>
                  <a:pt x="8203" y="14436"/>
                  <a:pt x="8161" y="14436"/>
                </a:cubicBezTo>
                <a:cubicBezTo>
                  <a:pt x="8136" y="14436"/>
                  <a:pt x="8128" y="14436"/>
                  <a:pt x="8111" y="14436"/>
                </a:cubicBezTo>
                <a:cubicBezTo>
                  <a:pt x="8103" y="14381"/>
                  <a:pt x="8094" y="14367"/>
                  <a:pt x="8086" y="14312"/>
                </a:cubicBezTo>
              </a:path>
              <a:path w="621" h="1738">
                <a:moveTo>
                  <a:pt x="8161" y="13469"/>
                </a:moveTo>
                <a:lnTo>
                  <a:pt x="8161" y="13469"/>
                </a:lnTo>
              </a:path>
              <a:path w="621" h="1738">
                <a:moveTo>
                  <a:pt x="7739" y="14213"/>
                </a:moveTo>
                <a:cubicBezTo>
                  <a:pt x="7769" y="14169"/>
                  <a:pt x="7870" y="14188"/>
                  <a:pt x="7938" y="14188"/>
                </a:cubicBezTo>
                <a:cubicBezTo>
                  <a:pt x="8078" y="14188"/>
                  <a:pt x="8219" y="14188"/>
                  <a:pt x="8359" y="14188"/>
                </a:cubicBezTo>
              </a:path>
              <a:path w="621" h="1738">
                <a:moveTo>
                  <a:pt x="7938" y="14436"/>
                </a:moveTo>
                <a:cubicBezTo>
                  <a:pt x="7938" y="14412"/>
                  <a:pt x="7938" y="14404"/>
                  <a:pt x="7913" y="14412"/>
                </a:cubicBezTo>
                <a:cubicBezTo>
                  <a:pt x="7874" y="14438"/>
                  <a:pt x="7878" y="14502"/>
                  <a:pt x="7863" y="14560"/>
                </a:cubicBezTo>
                <a:cubicBezTo>
                  <a:pt x="7844" y="14631"/>
                  <a:pt x="7838" y="14686"/>
                  <a:pt x="7838" y="14759"/>
                </a:cubicBezTo>
                <a:cubicBezTo>
                  <a:pt x="7838" y="14817"/>
                  <a:pt x="7838" y="14874"/>
                  <a:pt x="7838" y="14932"/>
                </a:cubicBezTo>
                <a:cubicBezTo>
                  <a:pt x="7908" y="14932"/>
                  <a:pt x="8010" y="14954"/>
                  <a:pt x="8062" y="14908"/>
                </a:cubicBezTo>
                <a:cubicBezTo>
                  <a:pt x="8110" y="14865"/>
                  <a:pt x="8119" y="14881"/>
                  <a:pt x="8161" y="14833"/>
                </a:cubicBezTo>
                <a:cubicBezTo>
                  <a:pt x="8199" y="14790"/>
                  <a:pt x="8210" y="14822"/>
                  <a:pt x="8210" y="14759"/>
                </a:cubicBezTo>
                <a:cubicBezTo>
                  <a:pt x="8210" y="14703"/>
                  <a:pt x="8230" y="14575"/>
                  <a:pt x="8186" y="14560"/>
                </a:cubicBezTo>
                <a:cubicBezTo>
                  <a:pt x="8151" y="14572"/>
                  <a:pt x="8124" y="14575"/>
                  <a:pt x="8111" y="14610"/>
                </a:cubicBezTo>
                <a:cubicBezTo>
                  <a:pt x="8099" y="14644"/>
                  <a:pt x="8088" y="14690"/>
                  <a:pt x="8086" y="14709"/>
                </a:cubicBezTo>
                <a:cubicBezTo>
                  <a:pt x="8080" y="14754"/>
                  <a:pt x="8074" y="14770"/>
                  <a:pt x="8062" y="14808"/>
                </a:cubicBezTo>
                <a:cubicBezTo>
                  <a:pt x="8053" y="14835"/>
                  <a:pt x="8062" y="14880"/>
                  <a:pt x="8062" y="14908"/>
                </a:cubicBezTo>
              </a:path>
              <a:path w="621" h="1738">
                <a:moveTo>
                  <a:pt x="7962" y="13295"/>
                </a:moveTo>
                <a:cubicBezTo>
                  <a:pt x="7962" y="13874"/>
                  <a:pt x="7962" y="14453"/>
                  <a:pt x="7962" y="150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67040" y="5776920"/>
            <a:ext cx="177840" cy="420840"/>
          </a:xfrm>
          <a:custGeom>
            <a:avLst/>
            <a:gdLst/>
            <a:ahLst/>
            <a:rect l="l" t="t" r="r" b="b"/>
            <a:pathLst>
              <a:path w="497" h="1166">
                <a:moveTo>
                  <a:pt x="8310" y="16470"/>
                </a:moveTo>
                <a:cubicBezTo>
                  <a:pt x="8387" y="16490"/>
                  <a:pt x="8367" y="16553"/>
                  <a:pt x="8384" y="16619"/>
                </a:cubicBezTo>
                <a:cubicBezTo>
                  <a:pt x="8404" y="16698"/>
                  <a:pt x="8434" y="16713"/>
                  <a:pt x="8434" y="16793"/>
                </a:cubicBezTo>
                <a:cubicBezTo>
                  <a:pt x="8434" y="16838"/>
                  <a:pt x="8458" y="16870"/>
                  <a:pt x="8458" y="16917"/>
                </a:cubicBezTo>
                <a:cubicBezTo>
                  <a:pt x="8458" y="16971"/>
                  <a:pt x="8479" y="17098"/>
                  <a:pt x="8434" y="17140"/>
                </a:cubicBezTo>
                <a:cubicBezTo>
                  <a:pt x="8419" y="17154"/>
                  <a:pt x="8307" y="17208"/>
                  <a:pt x="8285" y="17214"/>
                </a:cubicBezTo>
                <a:cubicBezTo>
                  <a:pt x="8221" y="17232"/>
                  <a:pt x="8062" y="17223"/>
                  <a:pt x="8037" y="17190"/>
                </a:cubicBezTo>
                <a:cubicBezTo>
                  <a:pt x="8007" y="17151"/>
                  <a:pt x="7979" y="17167"/>
                  <a:pt x="7962" y="17115"/>
                </a:cubicBezTo>
                <a:cubicBezTo>
                  <a:pt x="7962" y="17090"/>
                  <a:pt x="7962" y="17082"/>
                  <a:pt x="7962" y="17066"/>
                </a:cubicBezTo>
              </a:path>
              <a:path w="497" h="1166">
                <a:moveTo>
                  <a:pt x="8235" y="16073"/>
                </a:moveTo>
                <a:cubicBezTo>
                  <a:pt x="8235" y="16065"/>
                  <a:pt x="8235" y="16057"/>
                  <a:pt x="8235" y="160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xamples: Solving Division Equ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.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295280" y="914400"/>
          <a:ext cx="1238400" cy="7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14400"/>
                    <a:ext cx="123840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143000" y="2362320"/>
          <a:ext cx="114300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362320"/>
                    <a:ext cx="11430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295280" y="4038480"/>
          <a:ext cx="1130400" cy="93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4038480"/>
                    <a:ext cx="113040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938160" y="2643120"/>
            <a:ext cx="1731960" cy="785880"/>
          </a:xfrm>
          <a:custGeom>
            <a:avLst/>
            <a:gdLst/>
            <a:ahLst/>
            <a:rect l="l" t="t" r="r" b="b"/>
            <a:pathLst>
              <a:path w="4814" h="2184">
                <a:moveTo>
                  <a:pt x="4812" y="8880"/>
                </a:moveTo>
                <a:cubicBezTo>
                  <a:pt x="4812" y="8872"/>
                  <a:pt x="4812" y="8863"/>
                  <a:pt x="4812" y="8855"/>
                </a:cubicBezTo>
                <a:cubicBezTo>
                  <a:pt x="4928" y="8855"/>
                  <a:pt x="5043" y="8855"/>
                  <a:pt x="5159" y="8855"/>
                </a:cubicBezTo>
              </a:path>
              <a:path w="4814" h="2184">
                <a:moveTo>
                  <a:pt x="4911" y="9103"/>
                </a:moveTo>
                <a:cubicBezTo>
                  <a:pt x="5017" y="9103"/>
                  <a:pt x="5118" y="9110"/>
                  <a:pt x="5209" y="9128"/>
                </a:cubicBezTo>
                <a:cubicBezTo>
                  <a:pt x="5250" y="9128"/>
                  <a:pt x="5258" y="9128"/>
                  <a:pt x="5283" y="9128"/>
                </a:cubicBezTo>
              </a:path>
              <a:path w="4814" h="2184">
                <a:moveTo>
                  <a:pt x="5854" y="8905"/>
                </a:moveTo>
                <a:cubicBezTo>
                  <a:pt x="5854" y="9112"/>
                  <a:pt x="5854" y="9318"/>
                  <a:pt x="5854" y="9525"/>
                </a:cubicBezTo>
              </a:path>
              <a:path w="4814" h="2184">
                <a:moveTo>
                  <a:pt x="6201" y="8954"/>
                </a:moveTo>
                <a:cubicBezTo>
                  <a:pt x="6211" y="8926"/>
                  <a:pt x="6236" y="8910"/>
                  <a:pt x="6276" y="8905"/>
                </a:cubicBezTo>
                <a:cubicBezTo>
                  <a:pt x="6340" y="8898"/>
                  <a:pt x="6409" y="8905"/>
                  <a:pt x="6474" y="8905"/>
                </a:cubicBezTo>
                <a:cubicBezTo>
                  <a:pt x="6474" y="9008"/>
                  <a:pt x="6444" y="9048"/>
                  <a:pt x="6375" y="9128"/>
                </a:cubicBezTo>
                <a:cubicBezTo>
                  <a:pt x="6341" y="9168"/>
                  <a:pt x="6266" y="9251"/>
                  <a:pt x="6251" y="9302"/>
                </a:cubicBezTo>
                <a:cubicBezTo>
                  <a:pt x="6234" y="9362"/>
                  <a:pt x="6220" y="9343"/>
                  <a:pt x="6201" y="9401"/>
                </a:cubicBezTo>
                <a:cubicBezTo>
                  <a:pt x="6201" y="9426"/>
                  <a:pt x="6201" y="9434"/>
                  <a:pt x="6201" y="9451"/>
                </a:cubicBezTo>
                <a:cubicBezTo>
                  <a:pt x="6343" y="9451"/>
                  <a:pt x="6497" y="9464"/>
                  <a:pt x="6623" y="9426"/>
                </a:cubicBezTo>
                <a:cubicBezTo>
                  <a:pt x="6651" y="9426"/>
                  <a:pt x="6662" y="9424"/>
                  <a:pt x="6672" y="9401"/>
                </a:cubicBezTo>
              </a:path>
              <a:path w="4814" h="2184">
                <a:moveTo>
                  <a:pt x="6821" y="8905"/>
                </a:moveTo>
                <a:cubicBezTo>
                  <a:pt x="6821" y="8847"/>
                  <a:pt x="6821" y="8971"/>
                  <a:pt x="6821" y="9029"/>
                </a:cubicBezTo>
                <a:cubicBezTo>
                  <a:pt x="6821" y="9098"/>
                  <a:pt x="6776" y="9145"/>
                  <a:pt x="6772" y="9203"/>
                </a:cubicBezTo>
                <a:cubicBezTo>
                  <a:pt x="6767" y="9276"/>
                  <a:pt x="6772" y="9352"/>
                  <a:pt x="6772" y="9426"/>
                </a:cubicBezTo>
                <a:cubicBezTo>
                  <a:pt x="6885" y="9426"/>
                  <a:pt x="7016" y="9447"/>
                  <a:pt x="7119" y="9401"/>
                </a:cubicBezTo>
                <a:cubicBezTo>
                  <a:pt x="7177" y="9375"/>
                  <a:pt x="7232" y="9342"/>
                  <a:pt x="7293" y="9327"/>
                </a:cubicBezTo>
                <a:cubicBezTo>
                  <a:pt x="7328" y="9318"/>
                  <a:pt x="7396" y="9289"/>
                  <a:pt x="7417" y="9252"/>
                </a:cubicBezTo>
                <a:cubicBezTo>
                  <a:pt x="7440" y="9210"/>
                  <a:pt x="7408" y="9165"/>
                  <a:pt x="7392" y="9153"/>
                </a:cubicBezTo>
                <a:cubicBezTo>
                  <a:pt x="7367" y="9134"/>
                  <a:pt x="7326" y="9084"/>
                  <a:pt x="7317" y="9079"/>
                </a:cubicBezTo>
                <a:cubicBezTo>
                  <a:pt x="7281" y="9061"/>
                  <a:pt x="7141" y="9072"/>
                  <a:pt x="7119" y="9103"/>
                </a:cubicBezTo>
                <a:cubicBezTo>
                  <a:pt x="7100" y="9130"/>
                  <a:pt x="7070" y="9186"/>
                  <a:pt x="7069" y="9203"/>
                </a:cubicBezTo>
                <a:cubicBezTo>
                  <a:pt x="7065" y="9260"/>
                  <a:pt x="7069" y="9319"/>
                  <a:pt x="7069" y="9376"/>
                </a:cubicBezTo>
              </a:path>
              <a:path w="4814" h="2184">
                <a:moveTo>
                  <a:pt x="2604" y="7342"/>
                </a:moveTo>
                <a:cubicBezTo>
                  <a:pt x="2621" y="7376"/>
                  <a:pt x="2622" y="7413"/>
                  <a:pt x="2654" y="7441"/>
                </a:cubicBezTo>
                <a:cubicBezTo>
                  <a:pt x="2662" y="7441"/>
                  <a:pt x="2671" y="7441"/>
                  <a:pt x="2679" y="7441"/>
                </a:cubicBezTo>
                <a:cubicBezTo>
                  <a:pt x="2679" y="7482"/>
                  <a:pt x="2679" y="7524"/>
                  <a:pt x="2679" y="7565"/>
                </a:cubicBezTo>
                <a:cubicBezTo>
                  <a:pt x="2709" y="7583"/>
                  <a:pt x="2706" y="7587"/>
                  <a:pt x="2753" y="7590"/>
                </a:cubicBezTo>
                <a:cubicBezTo>
                  <a:pt x="2795" y="7592"/>
                  <a:pt x="2822" y="7610"/>
                  <a:pt x="2853" y="7615"/>
                </a:cubicBezTo>
                <a:cubicBezTo>
                  <a:pt x="2877" y="7615"/>
                  <a:pt x="2886" y="7615"/>
                  <a:pt x="2902" y="7615"/>
                </a:cubicBezTo>
                <a:cubicBezTo>
                  <a:pt x="2919" y="7632"/>
                  <a:pt x="2962" y="7693"/>
                  <a:pt x="3001" y="7714"/>
                </a:cubicBezTo>
                <a:cubicBezTo>
                  <a:pt x="3009" y="7714"/>
                  <a:pt x="3018" y="7714"/>
                  <a:pt x="3026" y="7714"/>
                </a:cubicBezTo>
                <a:cubicBezTo>
                  <a:pt x="3043" y="7728"/>
                  <a:pt x="3070" y="7746"/>
                  <a:pt x="3101" y="7764"/>
                </a:cubicBezTo>
                <a:cubicBezTo>
                  <a:pt x="3121" y="7796"/>
                  <a:pt x="3149" y="7828"/>
                  <a:pt x="3175" y="7863"/>
                </a:cubicBezTo>
                <a:cubicBezTo>
                  <a:pt x="3206" y="7905"/>
                  <a:pt x="3237" y="7958"/>
                  <a:pt x="3274" y="7987"/>
                </a:cubicBezTo>
                <a:cubicBezTo>
                  <a:pt x="3282" y="7987"/>
                  <a:pt x="3291" y="7987"/>
                  <a:pt x="3299" y="7987"/>
                </a:cubicBezTo>
                <a:cubicBezTo>
                  <a:pt x="3308" y="8053"/>
                  <a:pt x="3300" y="8023"/>
                  <a:pt x="3324" y="8062"/>
                </a:cubicBezTo>
                <a:cubicBezTo>
                  <a:pt x="3363" y="8094"/>
                  <a:pt x="3366" y="8074"/>
                  <a:pt x="3373" y="8136"/>
                </a:cubicBezTo>
                <a:cubicBezTo>
                  <a:pt x="3379" y="8184"/>
                  <a:pt x="3384" y="8195"/>
                  <a:pt x="3398" y="8235"/>
                </a:cubicBezTo>
                <a:cubicBezTo>
                  <a:pt x="3416" y="8288"/>
                  <a:pt x="3461" y="8358"/>
                  <a:pt x="3473" y="8409"/>
                </a:cubicBezTo>
                <a:cubicBezTo>
                  <a:pt x="3483" y="8453"/>
                  <a:pt x="3485" y="8494"/>
                  <a:pt x="3497" y="8533"/>
                </a:cubicBezTo>
                <a:cubicBezTo>
                  <a:pt x="3512" y="8580"/>
                  <a:pt x="3548" y="8647"/>
                  <a:pt x="3572" y="8682"/>
                </a:cubicBezTo>
                <a:cubicBezTo>
                  <a:pt x="3614" y="8742"/>
                  <a:pt x="3684" y="8796"/>
                  <a:pt x="3746" y="8830"/>
                </a:cubicBezTo>
                <a:cubicBezTo>
                  <a:pt x="3782" y="8850"/>
                  <a:pt x="3807" y="8885"/>
                  <a:pt x="3845" y="8905"/>
                </a:cubicBezTo>
                <a:cubicBezTo>
                  <a:pt x="3871" y="8919"/>
                  <a:pt x="3875" y="8935"/>
                  <a:pt x="3894" y="8954"/>
                </a:cubicBezTo>
              </a:path>
              <a:path w="4814" h="2184">
                <a:moveTo>
                  <a:pt x="2679" y="8161"/>
                </a:moveTo>
                <a:cubicBezTo>
                  <a:pt x="2692" y="8123"/>
                  <a:pt x="2708" y="8136"/>
                  <a:pt x="2753" y="8136"/>
                </a:cubicBezTo>
                <a:cubicBezTo>
                  <a:pt x="2844" y="8136"/>
                  <a:pt x="2935" y="8136"/>
                  <a:pt x="3026" y="8136"/>
                </a:cubicBezTo>
              </a:path>
              <a:path w="4814" h="2184">
                <a:moveTo>
                  <a:pt x="2952" y="8285"/>
                </a:moveTo>
                <a:cubicBezTo>
                  <a:pt x="2952" y="8346"/>
                  <a:pt x="2980" y="8614"/>
                  <a:pt x="2927" y="8632"/>
                </a:cubicBezTo>
              </a:path>
              <a:path w="4814" h="2184">
                <a:moveTo>
                  <a:pt x="4093" y="9004"/>
                </a:moveTo>
                <a:cubicBezTo>
                  <a:pt x="4093" y="9062"/>
                  <a:pt x="4058" y="9296"/>
                  <a:pt x="4118" y="9327"/>
                </a:cubicBezTo>
                <a:cubicBezTo>
                  <a:pt x="4164" y="9351"/>
                  <a:pt x="4288" y="9327"/>
                  <a:pt x="4341" y="9327"/>
                </a:cubicBezTo>
                <a:cubicBezTo>
                  <a:pt x="4341" y="9236"/>
                  <a:pt x="4341" y="9145"/>
                  <a:pt x="4341" y="9054"/>
                </a:cubicBezTo>
                <a:cubicBezTo>
                  <a:pt x="4341" y="9170"/>
                  <a:pt x="4341" y="9285"/>
                  <a:pt x="4341" y="9401"/>
                </a:cubicBezTo>
                <a:cubicBezTo>
                  <a:pt x="4390" y="9401"/>
                  <a:pt x="4539" y="9426"/>
                  <a:pt x="4564" y="9376"/>
                </a:cubicBezTo>
                <a:cubicBezTo>
                  <a:pt x="4580" y="9343"/>
                  <a:pt x="4589" y="9351"/>
                  <a:pt x="4589" y="9302"/>
                </a:cubicBezTo>
                <a:cubicBezTo>
                  <a:pt x="4589" y="9211"/>
                  <a:pt x="4589" y="9120"/>
                  <a:pt x="4589" y="90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340000" y="2714760"/>
            <a:ext cx="295200" cy="206280"/>
          </a:xfrm>
          <a:custGeom>
            <a:avLst/>
            <a:gdLst/>
            <a:ahLst/>
            <a:rect l="l" t="t" r="r" b="b"/>
            <a:pathLst>
              <a:path w="819" h="571">
                <a:moveTo>
                  <a:pt x="6548" y="7764"/>
                </a:moveTo>
                <a:cubicBezTo>
                  <a:pt x="6576" y="7829"/>
                  <a:pt x="6590" y="7878"/>
                  <a:pt x="6648" y="7913"/>
                </a:cubicBezTo>
                <a:cubicBezTo>
                  <a:pt x="6661" y="7953"/>
                  <a:pt x="6659" y="7923"/>
                  <a:pt x="6672" y="7962"/>
                </a:cubicBezTo>
              </a:path>
              <a:path w="819" h="571">
                <a:moveTo>
                  <a:pt x="6821" y="7665"/>
                </a:moveTo>
                <a:cubicBezTo>
                  <a:pt x="6756" y="7665"/>
                  <a:pt x="6751" y="7675"/>
                  <a:pt x="6722" y="7689"/>
                </a:cubicBezTo>
                <a:cubicBezTo>
                  <a:pt x="6714" y="7689"/>
                  <a:pt x="6705" y="7689"/>
                  <a:pt x="6697" y="7689"/>
                </a:cubicBezTo>
                <a:cubicBezTo>
                  <a:pt x="6686" y="7723"/>
                  <a:pt x="6644" y="7759"/>
                  <a:pt x="6623" y="7813"/>
                </a:cubicBezTo>
                <a:cubicBezTo>
                  <a:pt x="6591" y="7896"/>
                  <a:pt x="6546" y="7985"/>
                  <a:pt x="6524" y="8062"/>
                </a:cubicBezTo>
                <a:cubicBezTo>
                  <a:pt x="6511" y="8105"/>
                  <a:pt x="6543" y="8096"/>
                  <a:pt x="6499" y="8111"/>
                </a:cubicBezTo>
              </a:path>
              <a:path w="819" h="571">
                <a:moveTo>
                  <a:pt x="6921" y="7541"/>
                </a:moveTo>
                <a:cubicBezTo>
                  <a:pt x="6921" y="7673"/>
                  <a:pt x="6921" y="7806"/>
                  <a:pt x="6921" y="7938"/>
                </a:cubicBezTo>
                <a:cubicBezTo>
                  <a:pt x="7053" y="7938"/>
                  <a:pt x="7185" y="7938"/>
                  <a:pt x="7317" y="7938"/>
                </a:cubicBezTo>
                <a:cubicBezTo>
                  <a:pt x="7317" y="7884"/>
                  <a:pt x="7346" y="7716"/>
                  <a:pt x="7293" y="7689"/>
                </a:cubicBezTo>
                <a:cubicBezTo>
                  <a:pt x="7262" y="7673"/>
                  <a:pt x="7232" y="7665"/>
                  <a:pt x="7193" y="7665"/>
                </a:cubicBezTo>
                <a:cubicBezTo>
                  <a:pt x="7168" y="7665"/>
                  <a:pt x="7144" y="7665"/>
                  <a:pt x="7119" y="7665"/>
                </a:cubicBezTo>
                <a:cubicBezTo>
                  <a:pt x="7119" y="7756"/>
                  <a:pt x="7119" y="7847"/>
                  <a:pt x="7119" y="79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43080" y="946080"/>
            <a:ext cx="830160" cy="1581120"/>
          </a:xfrm>
          <a:custGeom>
            <a:avLst/>
            <a:gdLst/>
            <a:ahLst/>
            <a:rect l="l" t="t" r="r" b="b"/>
            <a:pathLst>
              <a:path w="2308" h="4392">
                <a:moveTo>
                  <a:pt x="7020" y="3274"/>
                </a:moveTo>
                <a:cubicBezTo>
                  <a:pt x="7020" y="3361"/>
                  <a:pt x="7007" y="3450"/>
                  <a:pt x="7045" y="3522"/>
                </a:cubicBezTo>
                <a:cubicBezTo>
                  <a:pt x="7059" y="3549"/>
                  <a:pt x="7112" y="3621"/>
                  <a:pt x="7119" y="3646"/>
                </a:cubicBezTo>
                <a:cubicBezTo>
                  <a:pt x="7126" y="3670"/>
                  <a:pt x="7119" y="3718"/>
                  <a:pt x="7119" y="3746"/>
                </a:cubicBezTo>
              </a:path>
              <a:path w="2308" h="4392">
                <a:moveTo>
                  <a:pt x="7243" y="3349"/>
                </a:moveTo>
                <a:cubicBezTo>
                  <a:pt x="7157" y="3349"/>
                  <a:pt x="7183" y="3384"/>
                  <a:pt x="7144" y="3423"/>
                </a:cubicBezTo>
                <a:cubicBezTo>
                  <a:pt x="7096" y="3447"/>
                  <a:pt x="7079" y="3453"/>
                  <a:pt x="7094" y="3497"/>
                </a:cubicBezTo>
                <a:cubicBezTo>
                  <a:pt x="7076" y="3503"/>
                  <a:pt x="7034" y="3541"/>
                  <a:pt x="7020" y="3572"/>
                </a:cubicBezTo>
                <a:cubicBezTo>
                  <a:pt x="7020" y="3580"/>
                  <a:pt x="7020" y="3589"/>
                  <a:pt x="7020" y="3597"/>
                </a:cubicBezTo>
                <a:cubicBezTo>
                  <a:pt x="6980" y="3610"/>
                  <a:pt x="7010" y="3608"/>
                  <a:pt x="6970" y="3621"/>
                </a:cubicBezTo>
                <a:cubicBezTo>
                  <a:pt x="6957" y="3659"/>
                  <a:pt x="6945" y="3642"/>
                  <a:pt x="6945" y="3696"/>
                </a:cubicBezTo>
              </a:path>
              <a:path w="2308" h="4392">
                <a:moveTo>
                  <a:pt x="7590" y="3101"/>
                </a:moveTo>
                <a:cubicBezTo>
                  <a:pt x="7590" y="3241"/>
                  <a:pt x="7590" y="3382"/>
                  <a:pt x="7590" y="3522"/>
                </a:cubicBezTo>
                <a:cubicBezTo>
                  <a:pt x="7706" y="3522"/>
                  <a:pt x="7822" y="3522"/>
                  <a:pt x="7938" y="3522"/>
                </a:cubicBezTo>
                <a:cubicBezTo>
                  <a:pt x="7938" y="3382"/>
                  <a:pt x="7938" y="3241"/>
                  <a:pt x="7938" y="3101"/>
                </a:cubicBezTo>
                <a:cubicBezTo>
                  <a:pt x="7938" y="3324"/>
                  <a:pt x="7938" y="3547"/>
                  <a:pt x="7938" y="3770"/>
                </a:cubicBezTo>
              </a:path>
              <a:path w="2308" h="4392">
                <a:moveTo>
                  <a:pt x="7590" y="3770"/>
                </a:moveTo>
                <a:cubicBezTo>
                  <a:pt x="7755" y="3770"/>
                  <a:pt x="7921" y="3770"/>
                  <a:pt x="8086" y="3770"/>
                </a:cubicBezTo>
              </a:path>
              <a:path w="2308" h="4392">
                <a:moveTo>
                  <a:pt x="7863" y="4018"/>
                </a:moveTo>
                <a:cubicBezTo>
                  <a:pt x="7863" y="4117"/>
                  <a:pt x="7863" y="4217"/>
                  <a:pt x="7863" y="4316"/>
                </a:cubicBezTo>
              </a:path>
              <a:path w="2308" h="4392">
                <a:moveTo>
                  <a:pt x="8260" y="2877"/>
                </a:moveTo>
                <a:cubicBezTo>
                  <a:pt x="8173" y="2877"/>
                  <a:pt x="8204" y="2915"/>
                  <a:pt x="8136" y="2977"/>
                </a:cubicBezTo>
                <a:cubicBezTo>
                  <a:pt x="8039" y="3065"/>
                  <a:pt x="7935" y="3167"/>
                  <a:pt x="7838" y="3249"/>
                </a:cubicBezTo>
                <a:cubicBezTo>
                  <a:pt x="7776" y="3302"/>
                  <a:pt x="7738" y="3318"/>
                  <a:pt x="7689" y="3373"/>
                </a:cubicBezTo>
                <a:cubicBezTo>
                  <a:pt x="7669" y="3396"/>
                  <a:pt x="7604" y="3464"/>
                  <a:pt x="7590" y="3473"/>
                </a:cubicBezTo>
                <a:cubicBezTo>
                  <a:pt x="7567" y="3488"/>
                  <a:pt x="7492" y="3539"/>
                  <a:pt x="7466" y="3572"/>
                </a:cubicBezTo>
                <a:cubicBezTo>
                  <a:pt x="7450" y="3592"/>
                  <a:pt x="7450" y="3596"/>
                  <a:pt x="7441" y="3621"/>
                </a:cubicBezTo>
              </a:path>
              <a:path w="2308" h="4392">
                <a:moveTo>
                  <a:pt x="7714" y="2629"/>
                </a:moveTo>
                <a:cubicBezTo>
                  <a:pt x="7714" y="2728"/>
                  <a:pt x="7717" y="2817"/>
                  <a:pt x="7689" y="2902"/>
                </a:cubicBezTo>
                <a:cubicBezTo>
                  <a:pt x="7678" y="2933"/>
                  <a:pt x="7674" y="2972"/>
                  <a:pt x="7665" y="3001"/>
                </a:cubicBezTo>
                <a:cubicBezTo>
                  <a:pt x="7665" y="3026"/>
                  <a:pt x="7665" y="3034"/>
                  <a:pt x="7665" y="3051"/>
                </a:cubicBezTo>
              </a:path>
              <a:path w="2308" h="4392">
                <a:moveTo>
                  <a:pt x="6846" y="3820"/>
                </a:moveTo>
                <a:cubicBezTo>
                  <a:pt x="6792" y="3820"/>
                  <a:pt x="6744" y="3811"/>
                  <a:pt x="6697" y="3845"/>
                </a:cubicBezTo>
                <a:cubicBezTo>
                  <a:pt x="6620" y="3900"/>
                  <a:pt x="6507" y="3993"/>
                  <a:pt x="6449" y="4068"/>
                </a:cubicBezTo>
                <a:cubicBezTo>
                  <a:pt x="6395" y="4138"/>
                  <a:pt x="6368" y="4229"/>
                  <a:pt x="6300" y="4291"/>
                </a:cubicBezTo>
                <a:cubicBezTo>
                  <a:pt x="6265" y="4323"/>
                  <a:pt x="6174" y="4364"/>
                  <a:pt x="6152" y="4415"/>
                </a:cubicBezTo>
                <a:cubicBezTo>
                  <a:pt x="6152" y="4423"/>
                  <a:pt x="6152" y="4432"/>
                  <a:pt x="6152" y="4440"/>
                </a:cubicBezTo>
              </a:path>
              <a:path w="2308" h="4392">
                <a:moveTo>
                  <a:pt x="5953" y="3870"/>
                </a:moveTo>
                <a:cubicBezTo>
                  <a:pt x="5953" y="3977"/>
                  <a:pt x="5953" y="4085"/>
                  <a:pt x="5953" y="4192"/>
                </a:cubicBezTo>
              </a:path>
              <a:path w="2308" h="4392">
                <a:moveTo>
                  <a:pt x="6672" y="5011"/>
                </a:moveTo>
                <a:cubicBezTo>
                  <a:pt x="6672" y="4944"/>
                  <a:pt x="6672" y="5049"/>
                  <a:pt x="6672" y="5060"/>
                </a:cubicBezTo>
                <a:cubicBezTo>
                  <a:pt x="6672" y="5110"/>
                  <a:pt x="6672" y="5159"/>
                  <a:pt x="6672" y="5209"/>
                </a:cubicBezTo>
                <a:cubicBezTo>
                  <a:pt x="6672" y="5140"/>
                  <a:pt x="6654" y="5064"/>
                  <a:pt x="6697" y="5011"/>
                </a:cubicBezTo>
                <a:cubicBezTo>
                  <a:pt x="6723" y="4978"/>
                  <a:pt x="6744" y="4938"/>
                  <a:pt x="6747" y="4911"/>
                </a:cubicBezTo>
                <a:cubicBezTo>
                  <a:pt x="6749" y="4894"/>
                  <a:pt x="6794" y="4849"/>
                  <a:pt x="6821" y="4837"/>
                </a:cubicBezTo>
                <a:cubicBezTo>
                  <a:pt x="6855" y="4822"/>
                  <a:pt x="6932" y="4837"/>
                  <a:pt x="6970" y="4837"/>
                </a:cubicBezTo>
                <a:cubicBezTo>
                  <a:pt x="6970" y="4969"/>
                  <a:pt x="6970" y="5102"/>
                  <a:pt x="6970" y="5234"/>
                </a:cubicBezTo>
              </a:path>
              <a:path w="2308" h="4392">
                <a:moveTo>
                  <a:pt x="6648" y="5482"/>
                </a:moveTo>
                <a:cubicBezTo>
                  <a:pt x="6640" y="5482"/>
                  <a:pt x="6631" y="5482"/>
                  <a:pt x="6623" y="5482"/>
                </a:cubicBezTo>
                <a:cubicBezTo>
                  <a:pt x="6780" y="5482"/>
                  <a:pt x="6937" y="5482"/>
                  <a:pt x="7094" y="5482"/>
                </a:cubicBezTo>
              </a:path>
              <a:path w="2308" h="4392">
                <a:moveTo>
                  <a:pt x="6871" y="5779"/>
                </a:moveTo>
                <a:cubicBezTo>
                  <a:pt x="6871" y="5887"/>
                  <a:pt x="6871" y="5994"/>
                  <a:pt x="6871" y="6102"/>
                </a:cubicBezTo>
              </a:path>
              <a:path w="2308" h="4392">
                <a:moveTo>
                  <a:pt x="6772" y="6821"/>
                </a:moveTo>
                <a:cubicBezTo>
                  <a:pt x="6772" y="6832"/>
                  <a:pt x="6772" y="6938"/>
                  <a:pt x="6772" y="6871"/>
                </a:cubicBezTo>
                <a:cubicBezTo>
                  <a:pt x="6772" y="6834"/>
                  <a:pt x="6772" y="6677"/>
                  <a:pt x="6772" y="6722"/>
                </a:cubicBezTo>
                <a:cubicBezTo>
                  <a:pt x="6772" y="6821"/>
                  <a:pt x="6772" y="6921"/>
                  <a:pt x="6772" y="7020"/>
                </a:cubicBezTo>
                <a:cubicBezTo>
                  <a:pt x="6800" y="6982"/>
                  <a:pt x="6777" y="6955"/>
                  <a:pt x="6796" y="6921"/>
                </a:cubicBezTo>
                <a:cubicBezTo>
                  <a:pt x="6821" y="6877"/>
                  <a:pt x="6821" y="6849"/>
                  <a:pt x="6821" y="6796"/>
                </a:cubicBezTo>
                <a:cubicBezTo>
                  <a:pt x="6821" y="6784"/>
                  <a:pt x="6850" y="6733"/>
                  <a:pt x="6871" y="6722"/>
                </a:cubicBezTo>
                <a:cubicBezTo>
                  <a:pt x="6903" y="6706"/>
                  <a:pt x="6896" y="6697"/>
                  <a:pt x="6945" y="6697"/>
                </a:cubicBezTo>
                <a:cubicBezTo>
                  <a:pt x="7005" y="6697"/>
                  <a:pt x="7099" y="6678"/>
                  <a:pt x="7119" y="6722"/>
                </a:cubicBezTo>
                <a:cubicBezTo>
                  <a:pt x="7140" y="6768"/>
                  <a:pt x="7164" y="6825"/>
                  <a:pt x="7169" y="6871"/>
                </a:cubicBezTo>
                <a:cubicBezTo>
                  <a:pt x="7173" y="6903"/>
                  <a:pt x="7169" y="6938"/>
                  <a:pt x="7169" y="69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11200" y="2347920"/>
            <a:ext cx="554040" cy="241200"/>
          </a:xfrm>
          <a:custGeom>
            <a:avLst/>
            <a:gdLst/>
            <a:ahLst/>
            <a:rect l="l" t="t" r="r" b="b"/>
            <a:pathLst>
              <a:path w="1539" h="670">
                <a:moveTo>
                  <a:pt x="3919" y="6524"/>
                </a:moveTo>
                <a:cubicBezTo>
                  <a:pt x="3919" y="6633"/>
                  <a:pt x="3909" y="6776"/>
                  <a:pt x="3944" y="6846"/>
                </a:cubicBezTo>
                <a:cubicBezTo>
                  <a:pt x="3961" y="6881"/>
                  <a:pt x="3970" y="6871"/>
                  <a:pt x="4018" y="6871"/>
                </a:cubicBezTo>
                <a:cubicBezTo>
                  <a:pt x="4043" y="6871"/>
                  <a:pt x="4068" y="6871"/>
                  <a:pt x="4093" y="6871"/>
                </a:cubicBezTo>
                <a:cubicBezTo>
                  <a:pt x="4093" y="6755"/>
                  <a:pt x="4093" y="6640"/>
                  <a:pt x="4093" y="6524"/>
                </a:cubicBezTo>
                <a:cubicBezTo>
                  <a:pt x="4093" y="6747"/>
                  <a:pt x="4093" y="6970"/>
                  <a:pt x="4093" y="7193"/>
                </a:cubicBezTo>
              </a:path>
              <a:path w="1539" h="670">
                <a:moveTo>
                  <a:pt x="4564" y="6598"/>
                </a:moveTo>
                <a:cubicBezTo>
                  <a:pt x="4551" y="6560"/>
                  <a:pt x="4535" y="6573"/>
                  <a:pt x="4490" y="6573"/>
                </a:cubicBezTo>
                <a:cubicBezTo>
                  <a:pt x="4456" y="6573"/>
                  <a:pt x="4409" y="6560"/>
                  <a:pt x="4390" y="6598"/>
                </a:cubicBezTo>
                <a:cubicBezTo>
                  <a:pt x="4374" y="6630"/>
                  <a:pt x="4366" y="6624"/>
                  <a:pt x="4366" y="6672"/>
                </a:cubicBezTo>
                <a:cubicBezTo>
                  <a:pt x="4366" y="6705"/>
                  <a:pt x="4353" y="6753"/>
                  <a:pt x="4390" y="6772"/>
                </a:cubicBezTo>
                <a:cubicBezTo>
                  <a:pt x="4420" y="6787"/>
                  <a:pt x="4472" y="6805"/>
                  <a:pt x="4490" y="6846"/>
                </a:cubicBezTo>
                <a:cubicBezTo>
                  <a:pt x="4503" y="6874"/>
                  <a:pt x="4511" y="6900"/>
                  <a:pt x="4514" y="6921"/>
                </a:cubicBezTo>
                <a:cubicBezTo>
                  <a:pt x="4522" y="6985"/>
                  <a:pt x="4514" y="7055"/>
                  <a:pt x="4514" y="7119"/>
                </a:cubicBezTo>
                <a:cubicBezTo>
                  <a:pt x="4473" y="7119"/>
                  <a:pt x="4431" y="7119"/>
                  <a:pt x="4390" y="7119"/>
                </a:cubicBezTo>
                <a:cubicBezTo>
                  <a:pt x="4390" y="7056"/>
                  <a:pt x="4361" y="6884"/>
                  <a:pt x="4415" y="6846"/>
                </a:cubicBezTo>
                <a:cubicBezTo>
                  <a:pt x="4459" y="6815"/>
                  <a:pt x="4508" y="6805"/>
                  <a:pt x="4514" y="6747"/>
                </a:cubicBezTo>
                <a:cubicBezTo>
                  <a:pt x="4520" y="6691"/>
                  <a:pt x="4514" y="6630"/>
                  <a:pt x="4514" y="6573"/>
                </a:cubicBezTo>
              </a:path>
              <a:path w="1539" h="670">
                <a:moveTo>
                  <a:pt x="5159" y="6623"/>
                </a:moveTo>
                <a:cubicBezTo>
                  <a:pt x="5151" y="6623"/>
                  <a:pt x="5143" y="6623"/>
                  <a:pt x="5135" y="6623"/>
                </a:cubicBezTo>
                <a:cubicBezTo>
                  <a:pt x="5135" y="6551"/>
                  <a:pt x="5167" y="6573"/>
                  <a:pt x="5234" y="6573"/>
                </a:cubicBezTo>
                <a:cubicBezTo>
                  <a:pt x="5284" y="6573"/>
                  <a:pt x="5333" y="6573"/>
                  <a:pt x="5383" y="6573"/>
                </a:cubicBezTo>
              </a:path>
              <a:path w="1539" h="670">
                <a:moveTo>
                  <a:pt x="5209" y="6772"/>
                </a:moveTo>
                <a:cubicBezTo>
                  <a:pt x="5209" y="6780"/>
                  <a:pt x="5209" y="6788"/>
                  <a:pt x="5209" y="6796"/>
                </a:cubicBezTo>
                <a:cubicBezTo>
                  <a:pt x="5292" y="6796"/>
                  <a:pt x="5374" y="6796"/>
                  <a:pt x="5457" y="67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46080" y="2670120"/>
            <a:ext cx="277920" cy="277920"/>
          </a:xfrm>
          <a:custGeom>
            <a:avLst/>
            <a:gdLst/>
            <a:ahLst/>
            <a:rect l="l" t="t" r="r" b="b"/>
            <a:pathLst>
              <a:path w="770" h="770">
                <a:moveTo>
                  <a:pt x="3150" y="7789"/>
                </a:moveTo>
                <a:cubicBezTo>
                  <a:pt x="3161" y="7842"/>
                  <a:pt x="3175" y="7881"/>
                  <a:pt x="3175" y="7938"/>
                </a:cubicBezTo>
                <a:cubicBezTo>
                  <a:pt x="3175" y="7971"/>
                  <a:pt x="3175" y="8004"/>
                  <a:pt x="3175" y="8037"/>
                </a:cubicBezTo>
                <a:cubicBezTo>
                  <a:pt x="3236" y="8022"/>
                  <a:pt x="3267" y="7944"/>
                  <a:pt x="3299" y="7888"/>
                </a:cubicBezTo>
                <a:cubicBezTo>
                  <a:pt x="3324" y="7844"/>
                  <a:pt x="3388" y="7810"/>
                  <a:pt x="3398" y="7789"/>
                </a:cubicBezTo>
                <a:cubicBezTo>
                  <a:pt x="3398" y="7781"/>
                  <a:pt x="3398" y="7772"/>
                  <a:pt x="3398" y="7764"/>
                </a:cubicBezTo>
                <a:cubicBezTo>
                  <a:pt x="3361" y="7773"/>
                  <a:pt x="3338" y="7806"/>
                  <a:pt x="3324" y="7813"/>
                </a:cubicBezTo>
                <a:cubicBezTo>
                  <a:pt x="3289" y="7830"/>
                  <a:pt x="3260" y="7843"/>
                  <a:pt x="3225" y="7863"/>
                </a:cubicBezTo>
                <a:cubicBezTo>
                  <a:pt x="3169" y="7895"/>
                  <a:pt x="3144" y="7955"/>
                  <a:pt x="3125" y="8012"/>
                </a:cubicBezTo>
                <a:cubicBezTo>
                  <a:pt x="3113" y="8047"/>
                  <a:pt x="3082" y="8073"/>
                  <a:pt x="3076" y="8086"/>
                </a:cubicBezTo>
                <a:cubicBezTo>
                  <a:pt x="3070" y="8097"/>
                  <a:pt x="3057" y="8182"/>
                  <a:pt x="3051" y="8186"/>
                </a:cubicBezTo>
                <a:cubicBezTo>
                  <a:pt x="3043" y="8186"/>
                  <a:pt x="3034" y="8186"/>
                  <a:pt x="3026" y="8186"/>
                </a:cubicBezTo>
              </a:path>
              <a:path w="770" h="770">
                <a:moveTo>
                  <a:pt x="3125" y="7764"/>
                </a:moveTo>
                <a:cubicBezTo>
                  <a:pt x="3125" y="7756"/>
                  <a:pt x="3125" y="7747"/>
                  <a:pt x="3125" y="7739"/>
                </a:cubicBezTo>
                <a:cubicBezTo>
                  <a:pt x="3136" y="7806"/>
                  <a:pt x="3160" y="7881"/>
                  <a:pt x="3200" y="7938"/>
                </a:cubicBezTo>
                <a:cubicBezTo>
                  <a:pt x="3224" y="7973"/>
                  <a:pt x="3244" y="8020"/>
                  <a:pt x="3249" y="8062"/>
                </a:cubicBezTo>
                <a:cubicBezTo>
                  <a:pt x="3249" y="8070"/>
                  <a:pt x="3249" y="8078"/>
                  <a:pt x="3249" y="8086"/>
                </a:cubicBezTo>
              </a:path>
              <a:path w="770" h="770">
                <a:moveTo>
                  <a:pt x="2853" y="7417"/>
                </a:moveTo>
                <a:cubicBezTo>
                  <a:pt x="2819" y="7442"/>
                  <a:pt x="2792" y="7448"/>
                  <a:pt x="2778" y="7491"/>
                </a:cubicBezTo>
                <a:cubicBezTo>
                  <a:pt x="2770" y="7515"/>
                  <a:pt x="2747" y="7538"/>
                  <a:pt x="2729" y="7565"/>
                </a:cubicBezTo>
                <a:cubicBezTo>
                  <a:pt x="2705" y="7601"/>
                  <a:pt x="2668" y="7625"/>
                  <a:pt x="2654" y="7665"/>
                </a:cubicBezTo>
                <a:cubicBezTo>
                  <a:pt x="2641" y="7702"/>
                  <a:pt x="2629" y="7685"/>
                  <a:pt x="2629" y="7739"/>
                </a:cubicBezTo>
                <a:cubicBezTo>
                  <a:pt x="2629" y="7789"/>
                  <a:pt x="2629" y="7838"/>
                  <a:pt x="2629" y="7888"/>
                </a:cubicBezTo>
                <a:cubicBezTo>
                  <a:pt x="2707" y="7888"/>
                  <a:pt x="2845" y="7914"/>
                  <a:pt x="2902" y="7863"/>
                </a:cubicBezTo>
                <a:cubicBezTo>
                  <a:pt x="2943" y="7826"/>
                  <a:pt x="2952" y="7848"/>
                  <a:pt x="2952" y="7789"/>
                </a:cubicBezTo>
                <a:cubicBezTo>
                  <a:pt x="2952" y="7714"/>
                  <a:pt x="2952" y="7640"/>
                  <a:pt x="2952" y="7565"/>
                </a:cubicBezTo>
                <a:cubicBezTo>
                  <a:pt x="2903" y="7565"/>
                  <a:pt x="2852" y="7560"/>
                  <a:pt x="2828" y="7615"/>
                </a:cubicBezTo>
                <a:cubicBezTo>
                  <a:pt x="2813" y="7649"/>
                  <a:pt x="2803" y="7673"/>
                  <a:pt x="2803" y="7714"/>
                </a:cubicBezTo>
                <a:cubicBezTo>
                  <a:pt x="2803" y="7772"/>
                  <a:pt x="2803" y="7830"/>
                  <a:pt x="2803" y="78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73080" y="1125360"/>
            <a:ext cx="357120" cy="276480"/>
          </a:xfrm>
          <a:custGeom>
            <a:avLst/>
            <a:gdLst/>
            <a:ahLst/>
            <a:rect l="l" t="t" r="r" b="b"/>
            <a:pathLst>
              <a:path w="993" h="770">
                <a:moveTo>
                  <a:pt x="3349" y="3324"/>
                </a:moveTo>
                <a:cubicBezTo>
                  <a:pt x="3371" y="3277"/>
                  <a:pt x="3439" y="3382"/>
                  <a:pt x="3473" y="3423"/>
                </a:cubicBezTo>
                <a:cubicBezTo>
                  <a:pt x="3516" y="3475"/>
                  <a:pt x="3587" y="3525"/>
                  <a:pt x="3621" y="3572"/>
                </a:cubicBezTo>
                <a:cubicBezTo>
                  <a:pt x="3644" y="3604"/>
                  <a:pt x="3684" y="3624"/>
                  <a:pt x="3696" y="3671"/>
                </a:cubicBezTo>
              </a:path>
              <a:path w="993" h="770">
                <a:moveTo>
                  <a:pt x="3696" y="3299"/>
                </a:moveTo>
                <a:cubicBezTo>
                  <a:pt x="3635" y="3314"/>
                  <a:pt x="3632" y="3388"/>
                  <a:pt x="3597" y="3448"/>
                </a:cubicBezTo>
                <a:cubicBezTo>
                  <a:pt x="3524" y="3572"/>
                  <a:pt x="3468" y="3703"/>
                  <a:pt x="3398" y="3820"/>
                </a:cubicBezTo>
                <a:cubicBezTo>
                  <a:pt x="3366" y="3873"/>
                  <a:pt x="3390" y="3880"/>
                  <a:pt x="3349" y="3894"/>
                </a:cubicBezTo>
              </a:path>
              <a:path w="993" h="770">
                <a:moveTo>
                  <a:pt x="2778" y="3150"/>
                </a:moveTo>
                <a:cubicBezTo>
                  <a:pt x="2778" y="3252"/>
                  <a:pt x="2789" y="3351"/>
                  <a:pt x="2753" y="3448"/>
                </a:cubicBezTo>
                <a:cubicBezTo>
                  <a:pt x="2732" y="3505"/>
                  <a:pt x="2704" y="3512"/>
                  <a:pt x="2704" y="3572"/>
                </a:cubicBezTo>
                <a:cubicBezTo>
                  <a:pt x="2750" y="3572"/>
                  <a:pt x="2878" y="3595"/>
                  <a:pt x="2902" y="3547"/>
                </a:cubicBezTo>
                <a:cubicBezTo>
                  <a:pt x="2928" y="3495"/>
                  <a:pt x="2966" y="3450"/>
                  <a:pt x="3001" y="3398"/>
                </a:cubicBezTo>
                <a:cubicBezTo>
                  <a:pt x="3031" y="3352"/>
                  <a:pt x="3070" y="3304"/>
                  <a:pt x="3076" y="3249"/>
                </a:cubicBezTo>
                <a:cubicBezTo>
                  <a:pt x="3079" y="3217"/>
                  <a:pt x="3076" y="3182"/>
                  <a:pt x="3076" y="3150"/>
                </a:cubicBezTo>
                <a:cubicBezTo>
                  <a:pt x="3076" y="3091"/>
                  <a:pt x="3076" y="3329"/>
                  <a:pt x="3076" y="3349"/>
                </a:cubicBezTo>
                <a:cubicBezTo>
                  <a:pt x="3076" y="3465"/>
                  <a:pt x="3076" y="3580"/>
                  <a:pt x="3076" y="36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54120" y="4276800"/>
            <a:ext cx="1544760" cy="1305000"/>
          </a:xfrm>
          <a:custGeom>
            <a:avLst/>
            <a:gdLst/>
            <a:ahLst/>
            <a:rect l="l" t="t" r="r" b="b"/>
            <a:pathLst>
              <a:path w="4292" h="3623">
                <a:moveTo>
                  <a:pt x="7094" y="12353"/>
                </a:moveTo>
                <a:cubicBezTo>
                  <a:pt x="7094" y="12459"/>
                  <a:pt x="7101" y="12467"/>
                  <a:pt x="7144" y="12551"/>
                </a:cubicBezTo>
                <a:cubicBezTo>
                  <a:pt x="7160" y="12583"/>
                  <a:pt x="7167" y="12617"/>
                  <a:pt x="7193" y="12650"/>
                </a:cubicBezTo>
              </a:path>
              <a:path w="4292" h="3623">
                <a:moveTo>
                  <a:pt x="7342" y="12303"/>
                </a:moveTo>
                <a:cubicBezTo>
                  <a:pt x="7286" y="12360"/>
                  <a:pt x="7262" y="12414"/>
                  <a:pt x="7218" y="12477"/>
                </a:cubicBezTo>
                <a:cubicBezTo>
                  <a:pt x="7203" y="12498"/>
                  <a:pt x="7163" y="12566"/>
                  <a:pt x="7144" y="12576"/>
                </a:cubicBezTo>
                <a:cubicBezTo>
                  <a:pt x="7136" y="12576"/>
                  <a:pt x="7127" y="12576"/>
                  <a:pt x="7119" y="12576"/>
                </a:cubicBezTo>
                <a:cubicBezTo>
                  <a:pt x="7100" y="12634"/>
                  <a:pt x="7064" y="12702"/>
                  <a:pt x="7020" y="12750"/>
                </a:cubicBezTo>
                <a:cubicBezTo>
                  <a:pt x="6997" y="12772"/>
                  <a:pt x="6992" y="12780"/>
                  <a:pt x="6970" y="12774"/>
                </a:cubicBezTo>
              </a:path>
              <a:path w="4292" h="3623">
                <a:moveTo>
                  <a:pt x="7789" y="12154"/>
                </a:moveTo>
                <a:cubicBezTo>
                  <a:pt x="7725" y="12154"/>
                  <a:pt x="7739" y="12162"/>
                  <a:pt x="7739" y="12229"/>
                </a:cubicBezTo>
                <a:cubicBezTo>
                  <a:pt x="7739" y="12276"/>
                  <a:pt x="7717" y="12308"/>
                  <a:pt x="7714" y="12353"/>
                </a:cubicBezTo>
                <a:cubicBezTo>
                  <a:pt x="7711" y="12394"/>
                  <a:pt x="7714" y="12436"/>
                  <a:pt x="7714" y="12477"/>
                </a:cubicBezTo>
                <a:cubicBezTo>
                  <a:pt x="7791" y="12477"/>
                  <a:pt x="7842" y="12473"/>
                  <a:pt x="7913" y="12452"/>
                </a:cubicBezTo>
                <a:cubicBezTo>
                  <a:pt x="7991" y="12430"/>
                  <a:pt x="8035" y="12427"/>
                  <a:pt x="8111" y="12427"/>
                </a:cubicBezTo>
                <a:cubicBezTo>
                  <a:pt x="8136" y="12427"/>
                  <a:pt x="8144" y="12427"/>
                  <a:pt x="8161" y="12427"/>
                </a:cubicBezTo>
                <a:cubicBezTo>
                  <a:pt x="8161" y="12336"/>
                  <a:pt x="8161" y="12245"/>
                  <a:pt x="8161" y="12154"/>
                </a:cubicBezTo>
                <a:cubicBezTo>
                  <a:pt x="8146" y="12245"/>
                  <a:pt x="8132" y="12335"/>
                  <a:pt x="8111" y="12427"/>
                </a:cubicBezTo>
                <a:cubicBezTo>
                  <a:pt x="8087" y="12530"/>
                  <a:pt x="8086" y="12620"/>
                  <a:pt x="8086" y="12725"/>
                </a:cubicBezTo>
                <a:cubicBezTo>
                  <a:pt x="8086" y="12741"/>
                  <a:pt x="8086" y="12758"/>
                  <a:pt x="8086" y="12774"/>
                </a:cubicBezTo>
              </a:path>
              <a:path w="4292" h="3623">
                <a:moveTo>
                  <a:pt x="4812" y="14312"/>
                </a:moveTo>
                <a:cubicBezTo>
                  <a:pt x="4748" y="14294"/>
                  <a:pt x="4792" y="14298"/>
                  <a:pt x="4738" y="14263"/>
                </a:cubicBezTo>
                <a:cubicBezTo>
                  <a:pt x="4700" y="14238"/>
                  <a:pt x="4663" y="14219"/>
                  <a:pt x="4638" y="14213"/>
                </a:cubicBezTo>
                <a:cubicBezTo>
                  <a:pt x="4568" y="14195"/>
                  <a:pt x="4473" y="14224"/>
                  <a:pt x="4440" y="14238"/>
                </a:cubicBezTo>
                <a:cubicBezTo>
                  <a:pt x="4400" y="14255"/>
                  <a:pt x="4353" y="14318"/>
                  <a:pt x="4341" y="14362"/>
                </a:cubicBezTo>
                <a:cubicBezTo>
                  <a:pt x="4328" y="14410"/>
                  <a:pt x="4318" y="14460"/>
                  <a:pt x="4316" y="14511"/>
                </a:cubicBezTo>
                <a:cubicBezTo>
                  <a:pt x="4313" y="14579"/>
                  <a:pt x="4315" y="14628"/>
                  <a:pt x="4341" y="14660"/>
                </a:cubicBezTo>
                <a:cubicBezTo>
                  <a:pt x="4370" y="14696"/>
                  <a:pt x="4399" y="14682"/>
                  <a:pt x="4440" y="14684"/>
                </a:cubicBezTo>
                <a:cubicBezTo>
                  <a:pt x="4546" y="14690"/>
                  <a:pt x="4565" y="14689"/>
                  <a:pt x="4638" y="14610"/>
                </a:cubicBezTo>
                <a:cubicBezTo>
                  <a:pt x="4671" y="14575"/>
                  <a:pt x="4694" y="14532"/>
                  <a:pt x="4713" y="14511"/>
                </a:cubicBezTo>
                <a:cubicBezTo>
                  <a:pt x="4739" y="14482"/>
                  <a:pt x="4738" y="14446"/>
                  <a:pt x="4738" y="14387"/>
                </a:cubicBezTo>
                <a:cubicBezTo>
                  <a:pt x="4738" y="14257"/>
                  <a:pt x="4738" y="14462"/>
                  <a:pt x="4738" y="14486"/>
                </a:cubicBezTo>
                <a:cubicBezTo>
                  <a:pt x="4738" y="14676"/>
                  <a:pt x="4738" y="14866"/>
                  <a:pt x="4738" y="15056"/>
                </a:cubicBezTo>
                <a:cubicBezTo>
                  <a:pt x="4787" y="14995"/>
                  <a:pt x="4814" y="14922"/>
                  <a:pt x="4862" y="14858"/>
                </a:cubicBezTo>
                <a:cubicBezTo>
                  <a:pt x="4885" y="14828"/>
                  <a:pt x="4922" y="14798"/>
                  <a:pt x="4936" y="14784"/>
                </a:cubicBezTo>
                <a:cubicBezTo>
                  <a:pt x="4991" y="14729"/>
                  <a:pt x="5050" y="14704"/>
                  <a:pt x="5110" y="14660"/>
                </a:cubicBezTo>
                <a:cubicBezTo>
                  <a:pt x="5159" y="14624"/>
                  <a:pt x="5150" y="14642"/>
                  <a:pt x="5159" y="14585"/>
                </a:cubicBezTo>
                <a:cubicBezTo>
                  <a:pt x="5159" y="14577"/>
                  <a:pt x="5159" y="14568"/>
                  <a:pt x="5159" y="14560"/>
                </a:cubicBezTo>
              </a:path>
              <a:path w="4292" h="3623">
                <a:moveTo>
                  <a:pt x="5135" y="14288"/>
                </a:moveTo>
                <a:cubicBezTo>
                  <a:pt x="5060" y="14288"/>
                  <a:pt x="5094" y="14309"/>
                  <a:pt x="5060" y="14387"/>
                </a:cubicBezTo>
                <a:cubicBezTo>
                  <a:pt x="5028" y="14461"/>
                  <a:pt x="4979" y="14556"/>
                  <a:pt x="4961" y="14635"/>
                </a:cubicBezTo>
                <a:cubicBezTo>
                  <a:pt x="4950" y="14684"/>
                  <a:pt x="4936" y="14732"/>
                  <a:pt x="4936" y="14784"/>
                </a:cubicBezTo>
                <a:cubicBezTo>
                  <a:pt x="4936" y="14867"/>
                  <a:pt x="4907" y="15021"/>
                  <a:pt x="4961" y="15081"/>
                </a:cubicBezTo>
                <a:cubicBezTo>
                  <a:pt x="4996" y="15120"/>
                  <a:pt x="5033" y="15143"/>
                  <a:pt x="5085" y="15156"/>
                </a:cubicBezTo>
                <a:cubicBezTo>
                  <a:pt x="5153" y="15173"/>
                  <a:pt x="5242" y="15161"/>
                  <a:pt x="5283" y="15106"/>
                </a:cubicBezTo>
                <a:cubicBezTo>
                  <a:pt x="5331" y="15041"/>
                  <a:pt x="5348" y="14974"/>
                  <a:pt x="5383" y="14908"/>
                </a:cubicBezTo>
                <a:cubicBezTo>
                  <a:pt x="5410" y="14857"/>
                  <a:pt x="5407" y="14820"/>
                  <a:pt x="5407" y="14759"/>
                </a:cubicBezTo>
                <a:cubicBezTo>
                  <a:pt x="5407" y="14708"/>
                  <a:pt x="5365" y="14712"/>
                  <a:pt x="5333" y="14684"/>
                </a:cubicBezTo>
                <a:cubicBezTo>
                  <a:pt x="5298" y="14654"/>
                  <a:pt x="5279" y="14660"/>
                  <a:pt x="5234" y="14660"/>
                </a:cubicBezTo>
                <a:cubicBezTo>
                  <a:pt x="5164" y="14660"/>
                  <a:pt x="5136" y="14657"/>
                  <a:pt x="5110" y="14734"/>
                </a:cubicBezTo>
                <a:cubicBezTo>
                  <a:pt x="5091" y="14791"/>
                  <a:pt x="5053" y="14849"/>
                  <a:pt x="5035" y="14908"/>
                </a:cubicBezTo>
                <a:cubicBezTo>
                  <a:pt x="5017" y="14966"/>
                  <a:pt x="5022" y="15088"/>
                  <a:pt x="5060" y="15131"/>
                </a:cubicBezTo>
                <a:cubicBezTo>
                  <a:pt x="5068" y="15139"/>
                  <a:pt x="5077" y="15148"/>
                  <a:pt x="5085" y="15156"/>
                </a:cubicBezTo>
              </a:path>
              <a:path w="4292" h="3623">
                <a:moveTo>
                  <a:pt x="5655" y="14635"/>
                </a:moveTo>
                <a:cubicBezTo>
                  <a:pt x="5671" y="14573"/>
                  <a:pt x="5738" y="14546"/>
                  <a:pt x="5804" y="14536"/>
                </a:cubicBezTo>
                <a:cubicBezTo>
                  <a:pt x="5904" y="14521"/>
                  <a:pt x="5999" y="14511"/>
                  <a:pt x="6102" y="14511"/>
                </a:cubicBezTo>
                <a:cubicBezTo>
                  <a:pt x="6135" y="14511"/>
                  <a:pt x="6168" y="14511"/>
                  <a:pt x="6201" y="14511"/>
                </a:cubicBezTo>
              </a:path>
              <a:path w="4292" h="3623">
                <a:moveTo>
                  <a:pt x="5730" y="14808"/>
                </a:moveTo>
                <a:cubicBezTo>
                  <a:pt x="5842" y="14808"/>
                  <a:pt x="5944" y="14798"/>
                  <a:pt x="6052" y="14784"/>
                </a:cubicBezTo>
                <a:cubicBezTo>
                  <a:pt x="6108" y="14777"/>
                  <a:pt x="6154" y="14764"/>
                  <a:pt x="6201" y="14759"/>
                </a:cubicBezTo>
                <a:cubicBezTo>
                  <a:pt x="6209" y="14759"/>
                  <a:pt x="6218" y="14759"/>
                  <a:pt x="6226" y="14759"/>
                </a:cubicBezTo>
              </a:path>
              <a:path w="4292" h="3623">
                <a:moveTo>
                  <a:pt x="6127" y="13618"/>
                </a:moveTo>
                <a:cubicBezTo>
                  <a:pt x="6227" y="13555"/>
                  <a:pt x="6357" y="13467"/>
                  <a:pt x="6474" y="13395"/>
                </a:cubicBezTo>
                <a:cubicBezTo>
                  <a:pt x="6638" y="13294"/>
                  <a:pt x="6817" y="13195"/>
                  <a:pt x="6995" y="13122"/>
                </a:cubicBezTo>
                <a:cubicBezTo>
                  <a:pt x="7167" y="13052"/>
                  <a:pt x="7252" y="12986"/>
                  <a:pt x="7392" y="12874"/>
                </a:cubicBezTo>
                <a:cubicBezTo>
                  <a:pt x="7478" y="12806"/>
                  <a:pt x="7555" y="12765"/>
                  <a:pt x="7640" y="12700"/>
                </a:cubicBezTo>
                <a:cubicBezTo>
                  <a:pt x="7792" y="12583"/>
                  <a:pt x="7956" y="12442"/>
                  <a:pt x="8086" y="12303"/>
                </a:cubicBezTo>
                <a:cubicBezTo>
                  <a:pt x="8201" y="12181"/>
                  <a:pt x="8314" y="12097"/>
                  <a:pt x="8458" y="12005"/>
                </a:cubicBezTo>
                <a:cubicBezTo>
                  <a:pt x="8537" y="11953"/>
                  <a:pt x="8566" y="11933"/>
                  <a:pt x="8607" y="11881"/>
                </a:cubicBezTo>
              </a:path>
              <a:path w="4292" h="3623">
                <a:moveTo>
                  <a:pt x="7640" y="13022"/>
                </a:moveTo>
                <a:cubicBezTo>
                  <a:pt x="7695" y="13022"/>
                  <a:pt x="7737" y="12997"/>
                  <a:pt x="7789" y="12973"/>
                </a:cubicBezTo>
                <a:cubicBezTo>
                  <a:pt x="7883" y="12929"/>
                  <a:pt x="7965" y="12921"/>
                  <a:pt x="8062" y="12898"/>
                </a:cubicBezTo>
                <a:cubicBezTo>
                  <a:pt x="8091" y="12891"/>
                  <a:pt x="8131" y="12898"/>
                  <a:pt x="8161" y="12898"/>
                </a:cubicBezTo>
              </a:path>
              <a:path w="4292" h="3623">
                <a:moveTo>
                  <a:pt x="7888" y="13196"/>
                </a:moveTo>
                <a:cubicBezTo>
                  <a:pt x="7839" y="13258"/>
                  <a:pt x="7814" y="13346"/>
                  <a:pt x="7789" y="13419"/>
                </a:cubicBezTo>
                <a:cubicBezTo>
                  <a:pt x="7762" y="13497"/>
                  <a:pt x="7764" y="13564"/>
                  <a:pt x="7764" y="13643"/>
                </a:cubicBezTo>
                <a:cubicBezTo>
                  <a:pt x="7764" y="13651"/>
                  <a:pt x="7764" y="13659"/>
                  <a:pt x="7764" y="13667"/>
                </a:cubicBezTo>
              </a:path>
              <a:path w="4292" h="3623">
                <a:moveTo>
                  <a:pt x="6474" y="14635"/>
                </a:moveTo>
                <a:cubicBezTo>
                  <a:pt x="6528" y="14617"/>
                  <a:pt x="6474" y="14603"/>
                  <a:pt x="6499" y="14560"/>
                </a:cubicBezTo>
                <a:cubicBezTo>
                  <a:pt x="6521" y="14521"/>
                  <a:pt x="6587" y="14536"/>
                  <a:pt x="6623" y="14536"/>
                </a:cubicBezTo>
                <a:cubicBezTo>
                  <a:pt x="6760" y="14536"/>
                  <a:pt x="6771" y="14589"/>
                  <a:pt x="6871" y="14660"/>
                </a:cubicBezTo>
                <a:cubicBezTo>
                  <a:pt x="6926" y="14699"/>
                  <a:pt x="6998" y="14717"/>
                  <a:pt x="7045" y="14759"/>
                </a:cubicBezTo>
                <a:cubicBezTo>
                  <a:pt x="7063" y="14775"/>
                  <a:pt x="7110" y="14827"/>
                  <a:pt x="7119" y="14833"/>
                </a:cubicBezTo>
                <a:cubicBezTo>
                  <a:pt x="7149" y="14853"/>
                  <a:pt x="7144" y="14834"/>
                  <a:pt x="7144" y="14883"/>
                </a:cubicBezTo>
              </a:path>
              <a:path w="4292" h="3623">
                <a:moveTo>
                  <a:pt x="7268" y="14486"/>
                </a:moveTo>
                <a:cubicBezTo>
                  <a:pt x="7199" y="14624"/>
                  <a:pt x="7098" y="14757"/>
                  <a:pt x="7045" y="14908"/>
                </a:cubicBezTo>
                <a:cubicBezTo>
                  <a:pt x="6986" y="15078"/>
                  <a:pt x="6918" y="15240"/>
                  <a:pt x="6846" y="15404"/>
                </a:cubicBezTo>
                <a:cubicBezTo>
                  <a:pt x="6817" y="15471"/>
                  <a:pt x="6841" y="15488"/>
                  <a:pt x="6796" y="155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09800" y="4419720"/>
            <a:ext cx="258480" cy="295200"/>
          </a:xfrm>
          <a:custGeom>
            <a:avLst/>
            <a:gdLst/>
            <a:ahLst/>
            <a:rect l="l" t="t" r="r" b="b"/>
            <a:pathLst>
              <a:path w="720" h="820">
                <a:moveTo>
                  <a:pt x="3299" y="12526"/>
                </a:moveTo>
                <a:cubicBezTo>
                  <a:pt x="3324" y="12526"/>
                  <a:pt x="3332" y="12526"/>
                  <a:pt x="3349" y="12526"/>
                </a:cubicBezTo>
                <a:cubicBezTo>
                  <a:pt x="3358" y="12575"/>
                  <a:pt x="3385" y="12610"/>
                  <a:pt x="3398" y="12650"/>
                </a:cubicBezTo>
                <a:cubicBezTo>
                  <a:pt x="3398" y="12675"/>
                  <a:pt x="3398" y="12683"/>
                  <a:pt x="3398" y="12700"/>
                </a:cubicBezTo>
                <a:cubicBezTo>
                  <a:pt x="3436" y="12713"/>
                  <a:pt x="3423" y="12729"/>
                  <a:pt x="3423" y="12774"/>
                </a:cubicBezTo>
                <a:cubicBezTo>
                  <a:pt x="3448" y="12774"/>
                  <a:pt x="3456" y="12774"/>
                  <a:pt x="3448" y="12799"/>
                </a:cubicBezTo>
              </a:path>
              <a:path w="720" h="820">
                <a:moveTo>
                  <a:pt x="3522" y="12452"/>
                </a:moveTo>
                <a:cubicBezTo>
                  <a:pt x="3522" y="12521"/>
                  <a:pt x="3507" y="12587"/>
                  <a:pt x="3473" y="12650"/>
                </a:cubicBezTo>
                <a:cubicBezTo>
                  <a:pt x="3452" y="12689"/>
                  <a:pt x="3374" y="12853"/>
                  <a:pt x="3349" y="12874"/>
                </a:cubicBezTo>
                <a:cubicBezTo>
                  <a:pt x="3324" y="12874"/>
                  <a:pt x="3316" y="12874"/>
                  <a:pt x="3299" y="12874"/>
                </a:cubicBezTo>
              </a:path>
              <a:path w="720" h="820">
                <a:moveTo>
                  <a:pt x="2927" y="12278"/>
                </a:moveTo>
                <a:cubicBezTo>
                  <a:pt x="2884" y="12278"/>
                  <a:pt x="2867" y="12283"/>
                  <a:pt x="2853" y="12328"/>
                </a:cubicBezTo>
                <a:cubicBezTo>
                  <a:pt x="2832" y="12393"/>
                  <a:pt x="2819" y="12482"/>
                  <a:pt x="2803" y="12551"/>
                </a:cubicBezTo>
                <a:cubicBezTo>
                  <a:pt x="2794" y="12588"/>
                  <a:pt x="2803" y="12637"/>
                  <a:pt x="2803" y="12675"/>
                </a:cubicBezTo>
                <a:cubicBezTo>
                  <a:pt x="2905" y="12675"/>
                  <a:pt x="2912" y="12635"/>
                  <a:pt x="3001" y="12601"/>
                </a:cubicBezTo>
                <a:cubicBezTo>
                  <a:pt x="3038" y="12587"/>
                  <a:pt x="3026" y="12572"/>
                  <a:pt x="3026" y="12526"/>
                </a:cubicBezTo>
                <a:cubicBezTo>
                  <a:pt x="3026" y="12468"/>
                  <a:pt x="3051" y="12440"/>
                  <a:pt x="3051" y="12378"/>
                </a:cubicBezTo>
                <a:cubicBezTo>
                  <a:pt x="3051" y="12242"/>
                  <a:pt x="3054" y="12547"/>
                  <a:pt x="3051" y="12576"/>
                </a:cubicBezTo>
                <a:cubicBezTo>
                  <a:pt x="3035" y="12734"/>
                  <a:pt x="2987" y="12890"/>
                  <a:pt x="2977" y="13047"/>
                </a:cubicBezTo>
                <a:cubicBezTo>
                  <a:pt x="2977" y="13072"/>
                  <a:pt x="2977" y="13080"/>
                  <a:pt x="2977" y="130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s: Solving Division Equ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.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.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.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066680" y="762120"/>
          <a:ext cx="120672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762120"/>
                    <a:ext cx="12067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1143000" y="2362320"/>
          <a:ext cx="11937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362320"/>
                    <a:ext cx="119376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1143000" y="4038480"/>
          <a:ext cx="135900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4038480"/>
                    <a:ext cx="13590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391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Word Problem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1.) Five friends share a stack of notebook paper. Each receives 11 pieces of paper. Write and solve a division equation to find the total amount of notebook paper.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S (worksheet) division proble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7:59:31Z</dcterms:created>
  <dc:creator>ccps</dc:creator>
  <dc:description/>
  <dc:language>en-US</dc:language>
  <cp:lastModifiedBy>deanne elizabeth mcgrath</cp:lastModifiedBy>
  <dcterms:modified xsi:type="dcterms:W3CDTF">2011-01-13T18:44:54Z</dcterms:modified>
  <cp:revision>25</cp:revision>
  <dc:subject/>
  <dc:title>Chapter 2 Integer Operations</dc:title>
</cp:coreProperties>
</file>